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48305-6246-4295-A649-20D6F213575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Фаза возникнов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начальных этапах развития ИКТ школы приобретают или получают в подарок оборудование и программы. В этой первой фазе администраторы и учителя только начинают исследовать возможности и результаты использования технологий в руководстве школой и включения их в учебный процесс. Школы в фазе возникновения все еще твердо стоят на традиционных позициях, то есть преподаватель играет в обучении основную роль. Учебный план отражает лишь освоение базовых умений, но при этом формируется начальное представление о возможностях ИКТ. При желании такой учебный план позволяет перейти к следующей стад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Фаза примен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Школы, находящиеся в фазе применения, адаптируют учебный план таким образом, чтобы интенсифицировать использование ИКТ в управлении школой и преподавании различных учебных дисциплин, пользуясь специфическими инструментами и программными средствами. Преподаватели доминируют в этом процессе. При желании такой учебный план позволяет перейти к следующей стад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Фаза привнес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ледующая ступень, фаза привнесения, включает в себя интегра¬цию информационных и коммуникационных технологий в учебном плане. Она реализуется в тех школах, где ИКТ уже используются в лабораториях, классах и кабинетах администраторов. Учителя исследуют новые пути повышения эффективности работы и изменения содержания своей профессиональной деятельности с помощью технологий. В учебном плане получают развитие методы межпредметной интеграции, отражающие суть реальных ситуаций практического применения зна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Фаза преобразова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Школы, в которых информационные и коммуникационные техно¬логии используются для переосмысления и творческого обновления организации учебного процесса, находятся в фазе преобразования. Технологии становятся незаметной, но неотъемлемой компонентой профессиональной деятельности и оказывают существенное влия¬ние на эффективность работы преподавателя. Теперь учебный план ориентирован на учащегося и отражает суть реальных ситуаций применения знаний на практике. ИКТ здесь преподаются как отдельный предмет на профессиональном уровне и, кроме того, служат для освоения других технологий. Такие школы становятся центрами, предлагающими услуги по обучению ИКТ населению района или города.</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Открытие</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ервая стадия (стадия А на рисунке), которую учителя и учащиеся проходят в процессе овладения ИКТ, — начальное освоение соответствующих инструментов, их основных функций и методов работы с ними. На этой стадии внимание концентрируется на развитии грамотности и основных умений в области ИКТ. Стадия открытия соответствует фазе возникновения в модели континуум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Узнавание</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 стадией открытия следует стадия узнавания того, как устроены инструменты ИКТ и как применять их при изучении различных дисциплин (стадия В на рисунке). Она включает в себя изучение методов использования информационных и коммуникационных технологий и соответствует фазе применения в модели континуум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онимание</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ледующая стадия (стадия С на рисунке) — это стадия понимания того, как и когда целесообразно обращаться к инструментам ИКТ для получения определенных результатов - например, при работе над конкретным проектом. На этой стадии формируются способности распознавать ситуации, в которых применение информационных и коммуникационных технологий может оказаться эффективным, выбирать инструменты, наиболее подходящие для выполнения задания, и использовать их в необходимом сочетании при решении поставленной задачи. Эта стадия соответствует фазам привнесения и преобразования в модели континуум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Специализация</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Четвертая и последняя стадия (стадия D на рисунке) предопределяет специализацию в использовании инструментов ИКТ, поскольку предполагает углубленное изучение научных понятий и методов, позволяющих создавать и поддерживать новые технологии. На этой стадии учащиеся осваивают информационные и коммуникационные технологии как учебную дисциплину, в которой им предстоит   специализироваться.</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брать инструменты ИКТ и методы обучения из рекомендованных для конкретных дисциплин;</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яснить причины выбора конкретных инструментов ИКТи метода обучения;</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елять особое внимание содержательной стороне деятельности учащихся;</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ланировать ход урока, определив, где и как лучше всего использовать инструменты ИК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меть описать трудности в реализации запланированных целей урока с помощью инструментов ИК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тывать    различия    в   уровнях    ИКТ-компетентности отдельных учеников;</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ранее   продумывать   стратегии   разрешения   трудностей в ходе обучения.</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	</a:t>
            </a:r>
            <a:r>
              <a:rPr b="0" lang="ru-RU" sz="1200" spc="-1" strike="noStrike">
                <a:solidFill>
                  <a:srgbClr val="000000"/>
                </a:solidFill>
                <a:latin typeface="Arial"/>
              </a:rPr>
              <a:t>обеспечивать разнообразие презентаций и учебных материалов с учетом основных целей и методов преподаван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	</a:t>
            </a:r>
            <a:r>
              <a:rPr b="0" lang="ru-RU" sz="1200" spc="-1" strike="noStrike">
                <a:solidFill>
                  <a:srgbClr val="000000"/>
                </a:solidFill>
                <a:latin typeface="Arial"/>
              </a:rPr>
              <a:t>анализировать   качество   презентаций   («читабельность», структуру, соответствие целям).</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ять   качество   компакт-дисков,   веб-сайтов,   аудио и видеоматериалов, а также других образовательных электронных материалов;</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ивать предложенные в них виды деятельности учеников и их вклад в достижение учебных целей;</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изировать конкретный вклад ИКТ-инструментов в индивидуальное обучение школьников.</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	</a:t>
            </a:r>
            <a:r>
              <a:rPr b="0" lang="ru-RU" sz="1200" spc="-1" strike="noStrike">
                <a:solidFill>
                  <a:srgbClr val="000000"/>
                </a:solidFill>
                <a:latin typeface="Arial"/>
              </a:rPr>
              <a:t>помогать школьникам конструировать простые запрос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	</a:t>
            </a:r>
            <a:r>
              <a:rPr b="0" lang="ru-RU" sz="1200" spc="-1" strike="noStrike">
                <a:solidFill>
                  <a:srgbClr val="000000"/>
                </a:solidFill>
                <a:latin typeface="Arial"/>
              </a:rPr>
              <a:t>научить  их  работать  с  информацией,  критически оценивать,   синтезировать   и   обобщать   полученные   сведения и оформлять результаты посредством инструментов ИКТ.</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ценивать средства коммуникации,  дающие возможность использовать учебную ситуацию для облегчения организации сотруд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активно участвовать в работе групп,  занятых вопросами внедрения ИК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 помощью инструментов ИКТ  (форумов, конференций, досок объявления, электронной почты) участвовать в совершенствовании преподавания, обучения и управления обучением.</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1EFD9-E68B-4091-80D4-96A2C884C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E828F-3478-4B4A-BC50-B726B6261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1215B-CA16-4C7F-94E6-22AEA0D12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7E6F6-20CD-4BF7-905B-0398C6A3C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7EAB71-75EA-41B4-A03F-909EF3103E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C81B4-814B-4E33-B89C-4F644F4D4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8D92F-9687-49FF-910E-F5BDF9666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2DF29-2E92-4109-B24B-F056EA5B4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33F6B-07A3-45EE-A869-8A5A57832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8102E-1542-4F04-B1E3-7F1AA4D6E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19171-3833-4C52-9014-6A4B6E2E3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6031A-B1DD-4BA0-9044-903809E8D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28599-8F61-4703-BC9E-69E84402E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F0F94-141D-4B26-BC86-C3674B691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D1C73-F0B5-4DD1-B332-8EAB10EFF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44E289-A5B6-4580-8FFE-A990D41EB0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9793C2-5AAA-448A-BAEA-3C4C5F9BEF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BDC8A-AAE1-47F1-9C0F-3BD827016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074BF-7C48-4540-8B3E-26788C83E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D8DBA-3CE1-41BC-822C-CE3416E58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D93D7-9642-46E0-B967-A6FC0DAC8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95AA7-C8C9-44C6-A87C-697D7AF8D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557DA-2F0B-47A4-AB70-36698BCF7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541D4-6CC5-4212-8CED-347A5DC757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3AB4-A094-4492-B5DF-8C2E05DC0898}"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9AE29-5FF2-4460-88F4-1DCFD8625E46}"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Внедрение ЦОР в учебный процесс</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щие вопросы методики</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Крылов А.И. krylov@metodist.ru</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Этапы освоения и использования ИКТ в школе</a:t>
            </a:r>
            <a:endParaRPr b="0" lang="en-US" sz="3800" spc="-1" strike="noStrike">
              <a:solidFill>
                <a:srgbClr val="006633"/>
              </a:solidFill>
              <a:latin typeface="Garamond"/>
            </a:endParaRPr>
          </a:p>
        </p:txBody>
      </p:sp>
      <p:graphicFrame>
        <p:nvGraphicFramePr>
          <p:cNvPr id="96" name=""/>
          <p:cNvGraphicFramePr/>
          <p:nvPr/>
        </p:nvGraphicFramePr>
        <p:xfrm>
          <a:off x="324000" y="2492280"/>
          <a:ext cx="8424360" cy="1081080"/>
        </p:xfrm>
        <a:graphic>
          <a:graphicData uri="http://schemas.openxmlformats.org/drawingml/2006/table">
            <a:tbl>
              <a:tblPr/>
              <a:tblGrid>
                <a:gridCol w="2106000"/>
                <a:gridCol w="2106000"/>
                <a:gridCol w="2106360"/>
                <a:gridCol w="2106000"/>
              </a:tblGrid>
              <a:tr h="1081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озникновение</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менени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cc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внесени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еобразование</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6600"/>
                    </a:solidFill>
                  </a:tcPr>
                </a:tc>
              </a:tr>
            </a:tbl>
          </a:graphicData>
        </a:graphic>
      </p:graphicFrame>
      <p:sp>
        <p:nvSpPr>
          <p:cNvPr id="97" name=""/>
          <p:cNvSpPr/>
          <p:nvPr/>
        </p:nvSpPr>
        <p:spPr>
          <a:xfrm>
            <a:off x="2764800" y="4214880"/>
            <a:ext cx="346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одель развития ИКТ в школе</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Крылов А.И. krylov@metodist.ru</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Этапы освоения ИКТ учителем</a:t>
            </a:r>
            <a:endParaRPr b="0" lang="en-US" sz="4200" spc="-1" strike="noStrike">
              <a:solidFill>
                <a:srgbClr val="006633"/>
              </a:solidFill>
              <a:latin typeface="Garamond"/>
            </a:endParaRPr>
          </a:p>
        </p:txBody>
      </p:sp>
      <p:graphicFrame>
        <p:nvGraphicFramePr>
          <p:cNvPr id="99" name=""/>
          <p:cNvGraphicFramePr/>
          <p:nvPr/>
        </p:nvGraphicFramePr>
        <p:xfrm>
          <a:off x="457200" y="1600200"/>
          <a:ext cx="8093160" cy="4586400"/>
        </p:xfrm>
        <a:graphic>
          <a:graphicData uri="http://schemas.openxmlformats.org/drawingml/2006/table">
            <a:tbl>
              <a:tblPr/>
              <a:tblGrid>
                <a:gridCol w="2606760"/>
                <a:gridCol w="2743200"/>
                <a:gridCol w="2743200"/>
              </a:tblGrid>
              <a:tr h="1132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ткрытие</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cc"/>
                          </a:solidFill>
                          <a:latin typeface="Arial"/>
                        </a:rPr>
                        <a:t>A</a:t>
                      </a:r>
                      <a:endParaRPr b="0" lang="en-US" sz="5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нструментов ИКТ и спец. приложений.</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1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зучение</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cc"/>
                          </a:solidFill>
                          <a:latin typeface="Arial"/>
                        </a:rPr>
                        <a:t>B</a:t>
                      </a:r>
                      <a:endParaRPr b="0" lang="en-US" sz="5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стройства инструментов ИКТ и работы с ними</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нимание</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cc"/>
                          </a:solidFill>
                          <a:latin typeface="Arial"/>
                        </a:rPr>
                        <a:t>C</a:t>
                      </a:r>
                      <a:endParaRPr b="0" lang="en-US" sz="5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ак и когда применять инструменты ИКТ для достижения конкретных целей</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7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пециализация</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cc"/>
                          </a:solidFill>
                          <a:latin typeface="Arial"/>
                        </a:rPr>
                        <a:t>D</a:t>
                      </a:r>
                      <a:endParaRPr b="0" lang="en-US" sz="5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66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использовании ИКТ</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Крылов А.И. krylov@metodist.ru</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ИКТ-компетентность учителя</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lgn="just">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Способность определить, </a:t>
            </a:r>
            <a:r>
              <a:rPr b="1" i="1" lang="en-US" sz="2600" spc="-1" strike="noStrike">
                <a:solidFill>
                  <a:srgbClr val="000000"/>
                </a:solidFill>
                <a:latin typeface="Arial"/>
              </a:rPr>
              <a:t>почему, когда, где и как</a:t>
            </a:r>
            <a:r>
              <a:rPr b="0" lang="en-US" sz="2600" spc="-1" strike="noStrike">
                <a:solidFill>
                  <a:srgbClr val="000000"/>
                </a:solidFill>
                <a:latin typeface="Arial"/>
              </a:rPr>
              <a:t> инструменты   ИКТ   могут   способствовать   достижению   учебных   целей, и выбрать из широкого спектра таких инструментов самые подходящие для побуждения школьника к учебе.</a:t>
            </a:r>
            <a:endParaRPr b="0" lang="en-US" sz="2600" spc="-1" strike="noStrike">
              <a:solidFill>
                <a:srgbClr val="000000"/>
              </a:solidFill>
              <a:latin typeface="Arial"/>
            </a:endParaRPr>
          </a:p>
          <a:p>
            <a:pPr marL="571680" indent="-571680" algn="just">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Способность   управлять   учебным   процессом,   применяя принципы работы в команде для достижения учебных целей.</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Крылов А.И. krylov@metodist.ru</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ИКТ-компетентность учителя</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lgn="just">
              <a:lnSpc>
                <a:spcPct val="90000"/>
              </a:lnSpc>
              <a:spcBef>
                <a:spcPts val="649"/>
              </a:spcBef>
              <a:buClr>
                <a:srgbClr val="cc9900"/>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пособность решить, когда можно вводить мультимедийные презентации, созданные всем классом или группой.</a:t>
            </a:r>
            <a:endParaRPr b="0" lang="en-US" sz="2600" spc="-1" strike="noStrike">
              <a:solidFill>
                <a:srgbClr val="000000"/>
              </a:solidFill>
              <a:latin typeface="Arial"/>
            </a:endParaRPr>
          </a:p>
          <a:p>
            <a:pPr marL="571680" indent="-571680" algn="just">
              <a:lnSpc>
                <a:spcPct val="90000"/>
              </a:lnSpc>
              <a:spcBef>
                <a:spcPts val="649"/>
              </a:spcBef>
              <a:buClr>
                <a:srgbClr val="cc9900"/>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пособность анализировать мультимедийные образовательные ресурсы по отдельным дисциплинам.</a:t>
            </a:r>
            <a:endParaRPr b="0" lang="en-US" sz="2600" spc="-1" strike="noStrike">
              <a:solidFill>
                <a:srgbClr val="000000"/>
              </a:solidFill>
              <a:latin typeface="Arial"/>
            </a:endParaRPr>
          </a:p>
          <a:p>
            <a:pPr marL="571680" indent="-571680" algn="just">
              <a:lnSpc>
                <a:spcPct val="90000"/>
              </a:lnSpc>
              <a:spcBef>
                <a:spcPts val="649"/>
              </a:spcBef>
              <a:buClr>
                <a:srgbClr val="cc9900"/>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пособность  содействовать учащимся  в  процессе  поиска, сравнения   и   анализа   информации,   полученной   из   Интернета и других ресурсов, специфичных для каждой дисциплины</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Крылов А.И. krylov@metodist.ru</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ИКТ-компетентность учителя</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lgn="just">
              <a:spcBef>
                <a:spcPts val="649"/>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Способность выбирать и использовать инструменты, подходящие для общения с коллегами или учениками, в зависимости от личных целей преподавателя.</a:t>
            </a:r>
            <a:endParaRPr b="0" lang="en-US" sz="2600" spc="-1" strike="noStrike">
              <a:solidFill>
                <a:srgbClr val="000000"/>
              </a:solidFill>
              <a:latin typeface="Arial"/>
            </a:endParaRPr>
          </a:p>
          <a:p>
            <a:pPr marL="571680" indent="-571680" algn="just">
              <a:spcBef>
                <a:spcPts val="649"/>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Способность работать с ИКТ с повышенной эффективностью, выбирать учебные курсы и принимать участие в новых проектах с  целью  повышения результативности  своего профессионального развития.</a:t>
            </a: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Крылов А.И. krylov@metodist.ru</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4T15:01:48Z</dcterms:created>
  <dc:creator>Alexey Krylov</dc:creator>
  <dc:description/>
  <dc:language>en-US</dc:language>
  <cp:lastModifiedBy>Alexey Krylov</cp:lastModifiedBy>
  <dcterms:modified xsi:type="dcterms:W3CDTF">2005-12-04T15:44:43Z</dcterms:modified>
  <cp:revision>12</cp:revision>
  <dc:subject/>
  <dc:title>Внедрение ЦОР в учебный процесс</dc:title>
</cp:coreProperties>
</file>