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9F8-DEF4-4A01-A53B-9B90D244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5FE-4FB4-462C-8911-A7642774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0F9-27D7-492A-894C-0F36237B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6E5-7BEB-45A3-B60D-3E3867D4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EAB-3DBC-40C0-8CBB-5D72F083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F3E-07A1-4000-B7E4-413A5C6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A9D-57AB-4ED6-B1E0-8DE0D5E0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531-A7C6-4EDE-B624-A51DDEBA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7F0-22DC-4E68-8C37-98253F8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4BE-64CB-4798-8F35-18FF75F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CBD-DE32-4C49-9A1D-D6BC80A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165-6754-451E-87E0-20B18BF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1D2D-3C14-4396-AD4F-40CD219C1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етодика раннего выявления дислекси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разработана профессором Корневым А. Н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51055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– это окошко, через которое дети видят и познают мир и самих себя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4.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   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убтест «Повторение цифр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ейчас я назову какие-нибудь  несколько цифр, я ты, как только я закончу, повтори их в том же порядке. Экспериментатор ровным голосом не меняя интонации называет ряд из трех цифр. При ошибочном воспроизведении предъявляется другой ряд из трех цифр. При правильном воспроизведении переходят к ряду из 4 и затем 5 цифр. Экспериментатор фиксирует количество цифр в наибольшем правильно воспроизведенном ряду. Это является предварительной оценкой за 1 часть задан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струкция: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азову цифры, повтори их начиная с конца, повторяй их в обратном порядке. Пояснение на примере. Я говорю 1-2, ты – 2-1. Предлагается ряд из 2 цифр, затем из трех и т.д. Оценивается 2 часть задания. Итоговой является сумма предварительных оце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Цифровые ряды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Прямой счёт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3             3-8-6              6-1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4             3-4-1-7           6-1-5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             8-4-2-3-9        5-2-1-8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Обратный счёт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2             2-5                   6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3             5-7-4                2-5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4             7-2-9-6             8-4-9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Оценк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тоговый результат больше 6 –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тоговый результат равен 6 –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тоговый результат меньше 6 –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нтерпретация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Первая часть задания характеризует </a:t>
            </a:r>
            <a:r>
              <a:rPr b="1" i="1" lang="ru-RU" sz="1300" spc="-1" strike="noStrike">
                <a:solidFill>
                  <a:srgbClr val="7030a0"/>
                </a:solidFill>
                <a:latin typeface="Calibri"/>
              </a:rPr>
              <a:t>слухоречевую память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, вторая – состояние </a:t>
            </a:r>
            <a:r>
              <a:rPr b="1" i="1" lang="ru-RU" sz="1300" spc="-1" strike="noStrike">
                <a:solidFill>
                  <a:srgbClr val="7030a0"/>
                </a:solidFill>
                <a:latin typeface="Calibri"/>
              </a:rPr>
              <a:t>оперативной памяти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. При ранних правополушарных или двусторонних органических поражениях головного мозга у детей в большей степени страдает  воспроизведение цифр в обратном порядке, а при левополушарном – в прям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5.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   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риентировка в «право-ле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ечевая проба Хед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ьмись левой рукой, за правое ухо, правой рукой – за правое ухо, правой рукой за левое ухо, покажи правой рукой левый  гл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остая ориентировк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ними левую руку (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бязательно начинают с лев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покажи правый глаз, левую ногу. Если задание выполнено – переходят к следующему, если нет – прекращ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Выполнены оба задания –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Выполнена только простая ориентировка –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е выполнено ни одного задания –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Интерпретация: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Поражение ЛП мозга, если нарушена переключаемость (застревания), нарушена премоторная область, если путаются – дефицит сукцессивных функц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6.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   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оставление рассказа по серии картин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ъявляется рассказ в 2-х  картинках (например рассказ о курице и цыплят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жи, что здесь нарисовано (если ребенок не может начать или перечисляет предметы – наводящие вопросы. После составления задается вопрос: почему цыплята стали чер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цен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чество построения рассказ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 составлен самостоятельно без существенных погрешностей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 составлен по наводящим вопросам без погрешностей или самостоятельно но с грубыми погрешностями (пропуски важных частей, нарушение последовательности событий)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есто рассказа перечисляются предметы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еречисляет даже предметы на картинках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нимание причинно-следственных связей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о правильное объяснение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ъяснение не полное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 бал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объясняет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 бал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оговая оценка – по сумме 1 и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оставление окончательного заключ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обследовании детей 6,5-7,5 лет без грубой речевой патологии  суммируются задания: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1, 4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на выбор по большему баллу –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2-3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умма баллов, превышающая 5,  свидетельствует о предрасположенности к дислекси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обследовании детей 7,5-8,5 лет с выраженной речевой патологией суммируются оценки за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1, 4,5,6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ния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умма баллов, превышающая 5,  свидетельствует о предрасположенности к дислекси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удности выполнения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ям, страдавшим расстройствами устной речи, выполнение тестовых заданий давалось труднее, чем здоровым детям младше их на 1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ибольшие трудности вызывали задания № 1, 4, 5, 6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альнейшие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глубленное обследование у психиатра, психолога, невропатолога и логопе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спользование в ходе исследования интеллекта ABM-WISC позволит не только оценить умственное развитие, но и предсказать ожидаемую стойкость дислек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формулировать развёрнутый клинический диагноз и наметить план медикаментозного лечения, психолого-педагогических и логопедических меропри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нализ тестовых результа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аша – 8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447920"/>
            <a:ext cx="404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дезориентации во времени и простран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оторные нарушения + височ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фицит сукцессивных функ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устороннее органическое поражение Г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ый объём слухоречевой памя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0240" y="7617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ртур – 4 бал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1371600"/>
            <a:ext cx="404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абость сукцессивных  (последовательных) функ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ности нахождения исходной точки в пространстве и времени, а также в анализе и воспроизведении точной пространственной и временной последова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шения левого полуш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421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Dyslexia Early Screening Test (DES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066680"/>
            <a:ext cx="4040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ьютерный тест CoPS 1 был разработан С.Singleton и K.Thomas (199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45 минут, может использоваться квалифицированными учителями и психологами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терпретация результатов тестирования требует профессионального анал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3920" y="-360"/>
            <a:ext cx="441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Cognitive Profiling System (CoPS 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4720" y="1219320"/>
            <a:ext cx="404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ест DEST разработан R.I.Nicolson и A.J.Fawcett (1995). Он может использоваться учителями и врачами, не имеющими опыта психологического тестирования, для обследования детей 4,5-6,5 лет. Его проведение занимает около 30 минут. Тест состоит из 10 заданий, выявляющих различные стороны психического развития ребен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еред тестированием должна быть собрана информация, касающаяся состояния моторной сферы ребенка, сформированности его сукцессивных функций, зрительного восприятия, памяти и реч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етодики для улучшения навыков чтения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.В.Гераськина, М.А.Глазкова. Развитие техники чт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.Г.Мисаренко, Н.Г.Войченко. Читаем слова и предложе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.А. Ильин. Учимся читать быстр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. И. Крупенчук. 77 упражнений для увеличения скорости чт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иагностические методики А.Н. Корн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перфолента 4"/>
          <p:cNvSpPr/>
          <p:nvPr/>
        </p:nvSpPr>
        <p:spPr>
          <a:xfrm>
            <a:off x="304920" y="1295280"/>
            <a:ext cx="3581280" cy="1719360"/>
          </a:xfrm>
          <a:prstGeom prst="flowChartPunchedTap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МИН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ерфолента 5"/>
          <p:cNvSpPr/>
          <p:nvPr/>
        </p:nvSpPr>
        <p:spPr>
          <a:xfrm>
            <a:off x="2895480" y="4572000"/>
            <a:ext cx="3505320" cy="1719360"/>
          </a:xfrm>
          <a:prstGeom prst="flowChartPunchedTap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РВ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 методика раннего выявления дис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00600" y="1603440"/>
            <a:ext cx="3734280" cy="113580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txBody>
          <a:bodyPr anchor="ctr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ОПЕЧ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кст оперативных единиц чт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ктуальность МРВ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ри позднем выявлен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рушения чтения достигают значительной степени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яжест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 требуют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лительног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коррекционного вмешатель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ри раннем выявлен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фических трудностей отмечается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большая эффективност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рекцион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даётся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едотвратит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торичные эмоциональные нарушения и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трудност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МИН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68544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диняет в себе оценку сразу трех параметров чте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ляет отличить дислексические нарушения от неспецифических, вторичных нарушений чт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диагностировать дислексию в тех случаях, когда ошибок при чтении почти не допуска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3920" y="304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ОПЕ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4720" y="685800"/>
            <a:ext cx="40417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диагностировать автоматизированность ч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ать оптимальную стратегию коррекционной работы и необходимые данному ребёнку приёмы тренировки навыка слогослия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работка результатов СМИН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эффициент техники чтения (КТЧ) можно было соотносить с общим интеллектуальным показателем (ОИП), полученным при исследовании интеллекта по методике ABM-WISC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ТЧ = 100 +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М - м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       *   5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де М - число правильно прочитанных слов за первую минуту у обследованного ребен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 - аналогичный среднестатистический показатель у здоровых детей того же возраста и класс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ижняя граница нормы этого показателя - 9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у ребёнка без ОИН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ТЧ на 20 единиц меньше ОИП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ое состояние следует расценивать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как дислексию.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ТЧ ниже 95, но разность КТЧ - ОИП меньше 19, то нарушения чтения носят неспецифический характер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. е. не является дислекси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блемы понимания прочитанног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и плохо умеют определять тему, главную мысль текста, ключевые слова, начало, завязку, конец; подбирать заголов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 умеют ориентироваться в построении текст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ять фактическую и эмоциональную информаци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давать прочитанную информацию с разными подробност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уть скриннинговой диагно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сследование сукцессивных функций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воспроизведение последовательности движений, звуковых ритмов, вербальных стимулов (цифр) и речевых рядов (времен года и дней недели))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ратковременной слухоречевой памя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ориентировки в понятиях «право-лево»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вязной речи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составление рассказа по серии картинок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-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1295280"/>
            <a:ext cx="449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требует специального оборуд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нимает не более 10 мин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ступна детским врачам, логопедам, учителям, воспита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3920" y="-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НЕДОСТА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1294920"/>
            <a:ext cx="34322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чность = 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жно изучить 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состоя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лишь 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отдельных функц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лежащих в основе процесса ч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Задания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Рядоговорение»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перечисление в прямом порядке времен года и дней недел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Ритмы»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воспроизведение звуковых ритмов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тест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Кулак — ребро— ладонь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субтест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Повторение цифр»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методики ABM-WISC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) ориентировка в понятиях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право — лево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оставление рассказ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серии картинок Н. Рад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   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Рядоговорени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струкц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 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исли по порядку времена года и (после ответа) дни не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цен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(в штрафных баллах)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о ответил на оба вопроса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ал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о ответил на один вопрос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ответил ни  на один вопрос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ал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Важнейший фактор дислексии заключается в трудности нахождения исходной точки в пространстве и времени, а также в анализе и воспроизведении точной пространственной и временной последовательности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   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Ритм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струкц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ушай, как я постучу и после того, как я закончу, постучи так же (однократное предъявление ритмичных ударов по столу карандашом или палочкой с длинными и короткими интервал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остые ритмы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! !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  !!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! ! !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!! !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 Если задание выполняется верно переходят к сложным ритмам, если допущено больше одной ошибки – прекращаю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Сложные ритм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!!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 !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  !!  !!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!  !!!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и выполнения – те ж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ценка: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авильно выполнены оба задания –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ыполнены только простые ритмы –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2 бал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е выполнено ни одного задания –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нтерпретац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У взрослых данный тест диагностирует поражение премоторных и височных структур правого полушар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У детей затруднения отмечаются при право- и левополушарном поражен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компьютер\Desktop\гмоз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   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ст «Кулак-ребро-ладонь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нструкция: 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мотри, что я сейчас сделаю и повтори так же. Демонстрируется трижды подряд последовательность из трех движений: кулак-ребро-ладонь. Ребенок должен трижды воспроизвести эту последова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ёнок нарушил последовательность не более одного раза, указывается ошибка и дается другая попытка. При ошибочном воспроизведение демонстрация образца повторяется но не более 5 демонстра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ценк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ое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роизведение  с одной-двух попыток после 1-й демонстрации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ое воспроизведение после 2 демонстраций или после 3 демонстраций с первой попытки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ое воспроизведение после 4-5 демонстраций или после 3 демонстраций со 2 и более попытки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нтерпретац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затруднения в данном задании можно связать с левополушарной недостаточ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5:20:19Z</dcterms:created>
  <dc:creator>компьютер</dc:creator>
  <dc:description/>
  <dc:language>en-US</dc:language>
  <cp:lastModifiedBy>MicroLab</cp:lastModifiedBy>
  <dcterms:modified xsi:type="dcterms:W3CDTF">2012-11-23T04:46:05Z</dcterms:modified>
  <cp:revision>61</cp:revision>
  <dc:subject/>
  <dc:title>Методика раннего выявления дислексии</dc:title>
</cp:coreProperties>
</file>