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C42-7517-482B-AB57-5FDDD288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AEC-9BE6-4F44-9392-17B67C0D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D78-5A03-40EA-8E75-AED84908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97E-EABA-4A55-A3E6-23BA617D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113-B75B-49DC-9CF3-7AA092D4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D06-1623-4A01-B910-33A8933A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C1F-195B-4E9C-B5F0-50988C25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537-21CA-4EB2-B314-47CC8699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DF5-8494-4BB9-8750-3A9A7B0A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973-BF61-433B-9547-B9ECACC9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1F2-92EA-4B28-ACA1-EE1FC0EB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2DC-BDDE-47EC-98E5-88468B2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948E7-1F39-4278-A802-8B3C2729363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120" y="1014120"/>
            <a:ext cx="822816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истема поддержки талантливых детей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г. Лесосибирс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3780000"/>
            <a:ext cx="82281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из доклада начальника отдела образования администрации г. Лесосибирска В.Г. Колосова на городской августовской педагогической конферен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5935680"/>
            <a:ext cx="324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осибирск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8232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блем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6960" y="157176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развитость системы поиска и сопровождения  одаренных школь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статочная информированность детей и родителей относительно веера карьер и возможностей для реализации таланта, что приводит к снижению мотивации, «кризису одаренност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статочный уровень  квалификации педагогов в части выявления и развития детской одаренности и работы с родителями одаренных детей, отсутствие системы механизмов трансляции методических иннов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сутствие системного управления олимпиадным движением на школьном и муниципальном уров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263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звитие системы поиска, сопровождения и поддержки одаренных 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работы городских открытых площадок для предъявления результатов деятельности в «области успеха» в различных сферах: творческой, физкультурно-оздоровительной,  интеллектуальной, гражданско - патриотической, духовно-нравственной и  труд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Создание  условий, в том числе финансовых,   для результативного вхождения учащихся города в краевые и российские программы и  проек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Повышение квалификации педагогов в области работы с одаренными и способными детьми, развитие тьюторского сопровождения одаренных детей и род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81000"/>
            <a:ext cx="822636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йств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сё это должно привести к разработке и утверждению городской целевой программы  «Одаренные дети», в которой будет отражена система выявления и поддержки талантливых детей; обучение учителей, специализирующихся в области работы с одаренными детьми,  а также программа конкретных городских  мероприятий и их финансовая поддерж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92160"/>
            <a:ext cx="822816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поддержки талантливых дет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. Лесосибир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предполагает инициати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ыявление детских талантов и талантливых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ддержка развития тала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вышение квалификации педагогов в области работы с высокоспособными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а: Создать систему выявления, поддержки и развития талантливых де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60000"/>
            <a:ext cx="4016520" cy="55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ая городская  олимпиада для учащихся 7-11 классов по 14 учебным предме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в региональной предметной олимпиаде по  учебным предме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ская предметная олимпиада для учащихся 3-4 классов «Сибиря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ьные Н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ческие чтения на базе ЛП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городская Демонстрационная площадка проектных и исследовательских работ для учащихся начальной школы «Я познаю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ская НПК для учащихся 5-7 кл. «Юни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ская НПК для учащихся 8-11 кл. «Первые шаги в наук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160" y="1260000"/>
            <a:ext cx="4016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каза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SimSun"/>
              </a:rPr>
              <a:t>10 61 участников городской предметной олимпиады 7-11 классы, 30 победителей  и 62 призера муниципального уров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SimSun"/>
              </a:rPr>
              <a:t>30 участников регионального тура Всероссийской олимпиады школьников, 3 приз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SimSun"/>
              </a:rPr>
              <a:t>86 учащихся 3-4 классов-участников предметной олимпиады «Сибирячок», 9 победител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SimSun"/>
              </a:rPr>
              <a:t>23 участников Физических чтений на базе ЛПИ, 19-участники ГНП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SimSun"/>
              </a:rPr>
              <a:t>48 младших школьников-участников 1 городской демонстрационной площадки «Я познаю мир», 18 победителей и призе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SimSun"/>
              </a:rPr>
              <a:t>452 учащихся-участников ШНП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SimSun"/>
              </a:rPr>
              <a:t>199 участников ГНП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SimSun"/>
              </a:rPr>
              <a:t>25 участников краевого форума «Молодежь и наука - 2010», 5 победител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а: Создать систему выявления, поддержки и развития талантливых де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0000"/>
            <a:ext cx="4016520" cy="55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в региональном конкурсе на получение губернаторской стипен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ской торжественный прием начальника отдела образования администрации г. Лесосибир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ация образовательной программы «Школа лидеров» на базе  МОУ «УДОД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в 8 Всероссийском детском Интернет-фестивале «Умн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в работе краевых выездных школ для одаренных де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4560" y="1260000"/>
            <a:ext cx="4016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каза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2 учащихся МОУ «СОШ № 2»-обладатели  краевых именных губернаторских стипенд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15 команд и 113 учащихся-участников Всероссийского  Интернет-фестиваля «Умник», по общероссийскому рейтингу 2 команды вышли в супер лигу и высшую  ли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 участия школьников г.Лесосибирска в олимпиадном дви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0240" y="1601640"/>
          <a:ext cx="908352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1601640"/>
                    <a:ext cx="90835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187280" y="3429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9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162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8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5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2349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7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4797360"/>
            <a:ext cx="287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4869000"/>
            <a:ext cx="287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4653000"/>
            <a:ext cx="287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581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5229360"/>
            <a:ext cx="287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5229360"/>
            <a:ext cx="287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5229360"/>
            <a:ext cx="287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5229360"/>
            <a:ext cx="287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сональная результативность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268280"/>
          <a:ext cx="8229600" cy="5028840"/>
        </p:xfrm>
        <a:graphic>
          <a:graphicData uri="http://schemas.openxmlformats.org/drawingml/2006/table">
            <a:tbl>
              <a:tblPr/>
              <a:tblGrid>
                <a:gridCol w="946080"/>
                <a:gridCol w="3024360"/>
                <a:gridCol w="1515960"/>
                <a:gridCol w="2743200"/>
              </a:tblGrid>
              <a:tr h="353880"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 участ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учас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840">
                <a:tc rowSpan="2"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йрыш Елиза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литера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англий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рус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льмах Ив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немец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й результат -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480">
                <a:tc rowSpan="4"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кулова Эльви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би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рус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ов Саш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англий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 - физкуль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хтин Ар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инфор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й результат –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й результат –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й Влади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06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хим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рус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би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англий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 участия школьников г.Лесосибирска в краевом форуме «Молодежь и на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79360" y="1468440"/>
          <a:ext cx="8425080" cy="50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468440"/>
                    <a:ext cx="842508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547640" y="227664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191628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2060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270828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4500720"/>
            <a:ext cx="360360" cy="29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501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4941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59280" y="5219640"/>
            <a:ext cx="540000" cy="5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74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ы по стандарту выполнения зада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628640"/>
          <a:ext cx="8785440" cy="4562640"/>
        </p:xfrm>
        <a:graphic>
          <a:graphicData uri="http://schemas.openxmlformats.org/drawingml/2006/table">
            <a:tbl>
              <a:tblPr/>
              <a:tblGrid>
                <a:gridCol w="627120"/>
                <a:gridCol w="628560"/>
                <a:gridCol w="627120"/>
                <a:gridCol w="628560"/>
                <a:gridCol w="627120"/>
                <a:gridCol w="625680"/>
                <a:gridCol w="630000"/>
                <a:gridCol w="627120"/>
                <a:gridCol w="625680"/>
                <a:gridCol w="630000"/>
                <a:gridCol w="625680"/>
                <a:gridCol w="630000"/>
                <a:gridCol w="625680"/>
                <a:gridCol w="627120"/>
              </a:tblGrid>
              <a:tr h="1039680"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8a4"/>
                    </a:solidFill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-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я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8a4"/>
                    </a:solidFill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8a4"/>
                    </a:solidFill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.я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8a4"/>
                    </a:solidFill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.я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8</a:t>
                      </a: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3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(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5,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9,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0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1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3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 (4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8,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1,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(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(1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 (4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1,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(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(1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(9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9,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7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(1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(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9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 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4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5,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9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,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(1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252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бедители Краевого форум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Молодёжь и наука — 2010»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20720" y="1619280"/>
          <a:ext cx="7919640" cy="11212200"/>
        </p:xfrm>
        <a:graphic>
          <a:graphicData uri="http://schemas.openxmlformats.org/drawingml/2006/table">
            <a:tbl>
              <a:tblPr/>
              <a:tblGrid>
                <a:gridCol w="923400"/>
                <a:gridCol w="1739880"/>
                <a:gridCol w="1917000"/>
                <a:gridCol w="1560240"/>
                <a:gridCol w="1779120"/>
              </a:tblGrid>
              <a:tr h="844200">
                <a:tc>
                  <a:txBody>
                    <a:bodyPr lIns="90000" rIns="90000" tIns="18612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 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овое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2530080">
                <a:tc>
                  <a:txBody>
                    <a:bodyPr lIns="90000" rIns="90000" tIns="18612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ы здорового п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пайкина Ал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онова Анаста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и очного тура (конферен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У СОШ № 9, 10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814400">
                <a:tc>
                  <a:txBody>
                    <a:bodyPr lIns="90000" rIns="90000" tIns="18612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 и химические технологии, биотехнолог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з Ел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кова Ал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и очного тура (конферен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У СОШ № 9 , 9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536480">
                <a:tc>
                  <a:txBody>
                    <a:bodyPr lIns="90000" rIns="90000" tIns="18612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 и познание м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тшин Николай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мин Пав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и очного тура (конферен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У «Лицей», 8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945800">
                <a:tc>
                  <a:txBody>
                    <a:bodyPr lIns="90000" rIns="90000" tIns="18612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ка и псих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атова Крис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 очного тура (конферен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ГБОУ «Лесосибирский детский дом им. Ф. Э. Дзержинского», 9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541240">
                <a:tc>
                  <a:txBody>
                    <a:bodyPr lIns="90000" rIns="90000" tIns="18612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, искусство бизнеса и экономическое у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пче Веро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 очного тура (конферен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612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У СОШ №9, 10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2:36:44Z</dcterms:created>
  <dc:creator>*</dc:creator>
  <dc:description/>
  <dc:language>en-US</dc:language>
  <cp:lastModifiedBy>*</cp:lastModifiedBy>
  <cp:lastPrinted>2010-08-20T08:41:25Z</cp:lastPrinted>
  <dcterms:modified xsi:type="dcterms:W3CDTF">2010-08-17T02:36:48Z</dcterms:modified>
  <cp:revision>1</cp:revision>
  <dc:subject/>
  <dc:title>Слайд 1</dc:title>
</cp:coreProperties>
</file>