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8AA-C83E-473F-9427-922D358B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54A-8700-4064-954A-39721F04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7EF-7EC2-4A90-946D-F54BF65C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F43-7581-4B17-8401-94EFBE4E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514C-12DB-4163-99FF-29DF0FBF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760F-5D97-4611-8C08-993DCB7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93C0-1B5D-487D-BFA5-013BED7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A5E-E426-41F8-806A-B0E507B1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EA08-4CF7-4D94-A064-486C4EB2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C04-F31C-40AE-A3F7-795189C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E3E-46CB-496E-A242-772CEA47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894-F9AF-47AC-B775-E555E395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4610-EF09-4B28-BBBA-B0D9402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7C8E-319E-4967-9716-3FCAB20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C1F6-66DE-4925-B69C-D8307F6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05E6-500F-4E83-8EB5-E7311043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171-97FF-4C66-8DE0-6CCB07F7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88A-621A-4337-BDE3-F1C57A4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9C0-1C86-4155-8ED6-52BF485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72E-5AF3-407D-B891-36AFACD5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01D-14E0-44AC-AB60-EEEBAABD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10E-1E4B-4E68-B1BD-8A986C83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A6E-EF96-4A67-AF85-33BE431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AC3-0267-410D-A31D-FC263138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"/>
              <p:cNvSpPr/>
              <p:nvPr/>
            </p:nvSpPr>
            <p:spPr>
              <a:xfrm>
                <a:off x="6856560" y="1416960"/>
                <a:ext cx="1828440" cy="180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462EC-915F-4D93-8553-22D918B531C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0960" cy="5942160"/>
            <a:chOff x="0" y="0"/>
            <a:chExt cx="876096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0960" cy="2436840"/>
              <a:chOff x="0" y="3505320"/>
              <a:chExt cx="876096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36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7880" y="3733560"/>
                <a:ext cx="7646760" cy="21369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5840"/>
                <a:ext cx="990360" cy="108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2280" y="533520"/>
                <a:ext cx="243792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080"/>
                <a:ext cx="8075520" cy="108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472524-28C7-4F6E-BE54-1FFDB4A93C5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овременное состояние работы с интеллектуально одаренными детьми: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заделы, проблемы, приорит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738160"/>
            <a:ext cx="68580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общить и представить  значимые итоги работы в 2009 году, ключевые задачи на 2010-11учебный  год по направлению «Развитие олимпиадного движения в контексте  организации работы с     интеллектуально одаренными детьми в М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. Лесосибирска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ейнеко И.В., директор МУ «МИМЦ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. Лесосибирск, 2010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189000"/>
            <a:ext cx="5688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образования администрации г. Лес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 «Межшкольный информационно-методический цен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87480" y="3881520"/>
            <a:ext cx="56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ктуальность тем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мативные документы и акты федерального , краевого и муниципального уровн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образовательная стратегия-инициатива «Наша нов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ание Президента РФ Федеральному Собранию и перечень поручений Президент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развития системы дополнительного образования Красноярского края «Поколение 21: развитие человеческого потенциа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 Красноярского края «О краевых именных стипендиях для одаренных учащихся ОУ Красноярского кр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пция долгосрочной целевой программы «Техническое творчество детей, учащейся и студенческой молодеж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развития МСО г. Лесосибирска на период 2010-2012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ел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ет сеть муниципальных учреждений для одаренных детей: гимназия, лицей, МИМЦ, Ц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ется ресурсная база для работы с одаренными дет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жено начало для организации  единой образовательной среды для развития способных и одаренных детей и механизм их поиска и вы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ются условия для повышения квалификации педагогов, работающих с одаренными детьми, используется ресурс ЛПИ и КК И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ивается % охвата детей событийными мероприятиями (количественный показатель) школьного и муниципальн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имые события 2009-2010 учебного г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российская олимпиада школьников школьный и муниципальный уровни (14 предметов, 1061 участни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региональном этапе Всероссийской олимпиаде школьников (25 участников, 3 победител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ада для учащихся начальной школы «Сибиря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ие НПК «Шаг в будущее» и «Юни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е физические чтения на базе ЛП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демонстрационная площадка исследовательских и проектных работ младших школьников «Мир вокруг на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краевом форуме «Шаг в будущее (30 человек, 5 победите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краевом конкурсе на получение именных стипендий школьников (6 участников, 2 победител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ллект-марафон для старшеклассников по И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ой конкурс «Луч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ржественный прием начальника отдела образования победителей Всероссийской предметной олимпиады и их настав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ая линейка выпускников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бликация материалов в энциклопедии «Одаренные 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имые события 2009-2010 учебного г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вгустовская конференция 2009 года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Наша новая школа»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щее и профессиональное образование как ресурс развития территории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201"/>
              </a:spcBef>
              <a:buClr>
                <a:srgbClr val="b2b2b2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али 2   муниципальные методические площадки: в МОУ «СОШ № 9 - тиражирование опыта разработки образовательных программ и технологий организации исследовательской работы в образовательных областях; в МОУ «Лицей» - тиражирование опыта разработки и описания организационных схем и мероприятий вовлечения учащихся в практику исследовательской деятельности, системы организации дистанционных курсов, олимпиад, конкурсов и  зачета достижений в предмете (общее количество участников площадок 86  челов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дагогические чтения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Инновационные управленческие и педагог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нологии в решении задач современной школы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блемно-тематические ГМО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1 площадка по организации проектной деятель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руппа учителей иностранного языка (15человек) прошли  курсы на базе ЛПИ-филиала СФУ по теме «Подготовка учителей иностранного языка к руководству научно-исследовательской деятельностью учащихся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2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кружное совещание по итогам работы МСО северной зоны края в рамках реализации инициатив «Наша новая школ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системного управления работы с одаренными детьми  на школьном и муницип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единого координационного совета (центра) по вопросам данн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витость механизмов межведомственного взаимодействия в реализации программ и проектов по работе с одаренными дет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е финансовое обеспечение (например,«затратность» участия в мероприятиях регионального и муниципального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роприятийность» как количественный показатель не приводит к качественным результатам и развитию компетентностей. Нагромождение мероприятий, в которых сложно ориентироваться и выбирать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ая включенность в образовательную практику инструментов и методик психолого-педагогической диагностики одаренности и технологий работы с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индивидуальных маршрутов развития одаренны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практики интенсивных школ для одаренны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оводится мониторинг качества работы ОУ и МСО с одаренными дет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ует специально организованная подготовка кадров для работы с одаренными детьми и как следствие, не всегда качественное  профессиональное сопровождение одаренны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одаренными не для всех является приоритетным направлением деятельности (уровень учителя, уровни ОУ и муниципалит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униципальной целевой программы «Одаренные де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раевые приоритеты и 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января принята долгосрочные  целевые  программы  «Одаренные дети Красноярья» и «Техническое творчество детей, учащейся и студенческой молодежи» на 2011-2013 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езидентского лицея Сибирского федерального о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краевого центра по работе с одаренными детьми на базе КК И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6 межрайонных ресурсны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рнизация и реконструкция раевого дворца пионеров и 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и оснащение оборудованием двух краевых учреждений для одаренных детей: краевой специальной музыкальной школы (колледжа) и спортивной школы-интерната по зимним видам 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заочной естественно-научной школы при СФ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раевых БП по робототехнике, по прикладной электронике, радиоэлектронике, авиамоделизму, судомоделизму и ракетостро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: краевой выставки «Сибирский техносалон», краевого слета юных техников, краевых научно-технических ч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е проведение трех краевых форумов для интеллектуально, художественно и спортивно одаренны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финансовых средств на участие детей в мероприятиях регионального и федерального уровней (для победител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января все ОУ будут подключены к электронной библиотеке и ЭК СФ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раевого портала «Одаренные де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ложения в план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муниципального координационного совета (в школах –операто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каникулярных интенсивных школ (или модулей) на базе Л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ая организация и проведение НПК для младших 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студентов ЛПИ в проведении олимпиады «Сибиряч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и физические чтения на базе Л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ые лаборатории на базе технологического инстит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ая организация и проведение Педагогических чтений 2011 года по вопросам работы с одаренными дет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БП в МОУ «СОШ № 9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работы «Школы руководителя НО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по программам повышения квалификации педагогов, работающих с одаренными дет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участие в грантовых прое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работы МСО с одаренными детьми (октябрь 2011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лижайшая 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ормирование городской целевой программы «Одаренные дет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(октябрь- ноябрь 2010 года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15:46Z</dcterms:created>
  <dc:creator>Директор</dc:creator>
  <dc:description/>
  <dc:language>en-US</dc:language>
  <cp:lastModifiedBy>comp</cp:lastModifiedBy>
  <cp:lastPrinted>2010-08-26T10:41:50Z</cp:lastPrinted>
  <dcterms:modified xsi:type="dcterms:W3CDTF">2010-08-26T16:20:28Z</dcterms:modified>
  <cp:revision>29</cp:revision>
  <dc:subject/>
  <dc:title>Современное состояние работы с интеллектуально-одаренными детьми: заделы</dc:title>
</cp:coreProperties>
</file>