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AD0-2EE6-4054-81FA-4EDC0707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295-E133-4C10-86C3-467471C5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2C1-0ABF-47EB-87F2-3901E17C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366-D4A1-4D21-AFA5-F58EE83B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C122-4ECF-4C4B-A930-51612E95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F6AF-FA1A-4567-8372-035ABEDF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437F-2022-4EFA-84CF-8D18D434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D89F-1553-4C35-8605-EFE9AD20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916B-6E87-40A1-84A5-609DDE43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46240"/>
            <a:ext cx="82231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EA6F-A4F1-4684-96F0-F4919EE1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126D-23C6-4775-996F-8E6062FE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E0E-14E2-4CD0-9253-74D4D4E8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3787-B5C5-42D8-B2B8-1462D833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86A9-D846-4953-AE5D-738D4496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A7C4-D0FA-4412-BC47-4249898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F64-C807-48F5-B346-A8C639A6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5C02-4673-47F3-A625-57762DFB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C1B-22B0-4F66-924A-EEDAD031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428-9690-4EC7-A264-B1073AE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F54-560A-4C86-AEDC-F84D8954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6240"/>
            <a:ext cx="82231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5C2-4F14-4036-88A7-58E66089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2D2-30C2-4622-9727-8EA55EFD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AE1-BE35-4A02-A643-B5E530CD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9CA-DDF0-46B6-8C17-9AEEE9C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6240"/>
            <a:ext cx="82231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15A3B-4F9B-4BD2-AAA3-9AD3C0DB882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E39703-2B85-4D2B-A7F4-8EAA6E728C48}" type="slidenum">
              <a:rPr b="0" lang="ru-RU" sz="1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92280"/>
            <a:ext cx="87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464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360360"/>
            <a:ext cx="8820360" cy="68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4b1f6f"/>
                </a:solidFill>
                <a:latin typeface="Times New Roman"/>
              </a:rPr>
              <a:t>«Использование технологии «Портфолио» в работе с одарёнными</a:t>
            </a:r>
            <a:r>
              <a:rPr b="1" lang="ru-RU" sz="6600" spc="-1" strike="noStrike">
                <a:solidFill>
                  <a:srgbClr val="4b1f6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4b1f6f"/>
                </a:solidFill>
                <a:latin typeface="Times New Roman"/>
              </a:rPr>
              <a:t>детьми</a:t>
            </a:r>
            <a:r>
              <a:rPr b="1" lang="ru-RU" sz="6600" spc="-1" strike="noStrike">
                <a:solidFill>
                  <a:srgbClr val="4b1f6f"/>
                </a:solidFill>
                <a:latin typeface="Times New Roman"/>
              </a:rPr>
              <a:t> в школьной библиотеке</a:t>
            </a:r>
            <a:r>
              <a:rPr b="1" lang="en-US" sz="6600" spc="-1" strike="noStrike">
                <a:solidFill>
                  <a:srgbClr val="4b1f6f"/>
                </a:solidFill>
                <a:latin typeface="Times New Roman"/>
              </a:rPr>
              <a:t>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0360" y="1619280"/>
            <a:ext cx="8640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b1f6f"/>
                </a:solidFill>
                <a:latin typeface="Times New Roman"/>
              </a:rPr>
              <a:t>Мозговой штурм (наглядный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b1f6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b1f6f"/>
                </a:solidFill>
                <a:latin typeface="Times New Roman"/>
              </a:rPr>
              <a:t>Структура (разделы) портфолио, используя клас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539640"/>
            <a:ext cx="8820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b1f6f"/>
                </a:solidFill>
                <a:latin typeface="Times New Roman"/>
              </a:rPr>
              <a:t>Работа в группах (3гр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b1f6f"/>
                </a:solidFill>
                <a:latin typeface="Times New Roman"/>
              </a:rPr>
              <a:t>над </a:t>
            </a:r>
            <a:r>
              <a:rPr b="0" lang="en-US" sz="4000" spc="-1" strike="noStrike">
                <a:solidFill>
                  <a:srgbClr val="4b1f6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b1f6f"/>
                </a:solidFill>
                <a:latin typeface="Times New Roman"/>
              </a:rPr>
              <a:t>разделами портфоли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b1f6f"/>
                </a:solidFill>
                <a:latin typeface="Times New Roman"/>
              </a:rPr>
              <a:t>Продолжаем работу с кластером и на стадии осмысления: по ходу работы  вносим исправления и дополнения в грозди. Выстраиваем</a:t>
            </a:r>
            <a:r>
              <a:rPr b="0" lang="en-US" sz="3600" spc="-1" strike="noStrike">
                <a:solidFill>
                  <a:srgbClr val="4b1f6f"/>
                </a:solidFill>
                <a:latin typeface="Times New Roman"/>
              </a:rPr>
              <a:t> новые логические связ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363240"/>
            <a:ext cx="87836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b1f6f"/>
                </a:solidFill>
                <a:latin typeface="Times New Roman"/>
              </a:rPr>
              <a:t>Типы портфолио: 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4b1f6f"/>
                </a:solidFill>
                <a:latin typeface="Times New Roman"/>
              </a:rPr>
              <a:t>«Портфолио документов»</a:t>
            </a:r>
            <a:br>
              <a:rPr sz="3600"/>
            </a:br>
            <a:r>
              <a:rPr b="0" lang="en-US" sz="3600" spc="-1" strike="noStrike">
                <a:solidFill>
                  <a:srgbClr val="4b1f6f"/>
                </a:solidFill>
                <a:latin typeface="Times New Roman"/>
              </a:rPr>
              <a:t>«Портфолио работ»</a:t>
            </a:r>
            <a:br>
              <a:rPr sz="3600"/>
            </a:br>
            <a:r>
              <a:rPr b="0" lang="en-US" sz="3600" spc="-1" strike="noStrike">
                <a:solidFill>
                  <a:srgbClr val="4b1f6f"/>
                </a:solidFill>
                <a:latin typeface="Times New Roman"/>
              </a:rPr>
              <a:t>«Портфолио отзывов»</a:t>
            </a:r>
            <a:br>
              <a:rPr sz="3600"/>
            </a:br>
            <a:r>
              <a:rPr b="0" lang="en-US" sz="3600" spc="-1" strike="noStrike">
                <a:solidFill>
                  <a:srgbClr val="4b1f6f"/>
                </a:solidFill>
                <a:latin typeface="Times New Roman"/>
              </a:rPr>
              <a:t>«Проблемно-исследовательский портфолио»</a:t>
            </a:r>
            <a:br>
              <a:rPr sz="3600"/>
            </a:br>
            <a:r>
              <a:rPr b="0" lang="en-US" sz="3600" spc="-1" strike="noStrike">
                <a:solidFill>
                  <a:srgbClr val="4b1f6f"/>
                </a:solidFill>
                <a:latin typeface="Times New Roman"/>
              </a:rPr>
              <a:t>«Тематический портфолио» (портфель изучения темы)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905040"/>
            <a:ext cx="8315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b1f6f"/>
                </a:solidFill>
                <a:latin typeface="Times New Roman"/>
              </a:rPr>
              <a:t>Портфолио - органайзер школьника, незаменимый инструмент формирования его оргдеятельностной компетен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b1f6f"/>
                </a:solidFill>
                <a:latin typeface="Times New Roman"/>
              </a:rPr>
              <a:t>Он представляет собой одновременно форму, процесс организации и технологию работы с продуктами читательской деятельности учащихся, предназначенных для демонстрации, анализа и оценки своих читательских  результатов, для развития рефлек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3:23:06Z</dcterms:created>
  <dc:creator>komp</dc:creator>
  <dc:description/>
  <dc:language>en-US</dc:language>
  <cp:lastModifiedBy>Завулон</cp:lastModifiedBy>
  <dcterms:modified xsi:type="dcterms:W3CDTF">2010-11-24T15:17:05Z</dcterms:modified>
  <cp:revision>5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11049</vt:lpwstr>
  </property>
</Properties>
</file>