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388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960" y="210132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6320" y="210132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3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960" y="4583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6320" y="4583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9968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388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41240" y="555480"/>
            <a:ext cx="860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, как школа использует свою библиотеку, показывает, что в ней понимают под образовани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Ж.Р. Браун, консультант  IASL по работе школьных библиотек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Образовательные стандарты нового поколения:взгляд в сорону библиотек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удно представить, чтобы реализация любого положения стандарта была возможна без участия библиоте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ейн А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овая школа потребует, безусловно, новой библиотеки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Федеральный государственный образовательный стандарт начального общего образования (ФГОС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совокупность требований, обязательных при реализации основной образовательной программы начального общего образования образовательными учреждениями, имеющими государственную аккредитац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9976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Общие положения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тандарт учитывает возрастные и индивидуальные особенности обучающихся на ступени нача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.Стандарт учитывает образовательные потребности детей с ограниченными возможностями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ормативный  срок освоения  основной образовательной программы начального общего образования — 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тандарт направлен на формирование универсальных учебных  компетентностей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В основе стандарта лежит системно-деятельностный под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тандарт ориентирован на становление личностных характеристик выпускника («портрет выпускника начальной школы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Arial"/>
              </a:rPr>
              <a:t>Структура ФГОС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ребования к 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результат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своения основной образовательной программы начального общего образова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Требования к 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структур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ой образовательной программы начального общего образ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Требования к</a:t>
            </a: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 условия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еализации основной образовательной программы начального общего образ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Задание для работы в группе «Требования к результатам...»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41240" y="2101680"/>
          <a:ext cx="8607600" cy="476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2101680"/>
                    <a:ext cx="860760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9640" y="1979640"/>
          <a:ext cx="9360000" cy="5400360"/>
        </p:xfrm>
        <a:graphic>
          <a:graphicData uri="http://schemas.openxmlformats.org/drawingml/2006/table">
            <a:tbl>
              <a:tblPr/>
              <a:tblGrid>
                <a:gridCol w="3119400"/>
                <a:gridCol w="3119760"/>
                <a:gridCol w="3120840"/>
              </a:tblGrid>
              <a:tr h="107964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Треб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держание треб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Библиотечные и педагогические техники и 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07964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Личнос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08000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етапредме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07964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Предмет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081440"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Задание для работы в группе «Требования к условиям...»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41240" y="2101680"/>
          <a:ext cx="8607600" cy="476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2101680"/>
                    <a:ext cx="860760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9640" y="1979640"/>
          <a:ext cx="9001080" cy="5400360"/>
        </p:xfrm>
        <a:graphic>
          <a:graphicData uri="http://schemas.openxmlformats.org/drawingml/2006/table">
            <a:tbl>
              <a:tblPr/>
              <a:tblGrid>
                <a:gridCol w="4600800"/>
                <a:gridCol w="4400280"/>
              </a:tblGrid>
              <a:tr h="106992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Треб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держание треб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07028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адровое 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07028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атериально-техническое 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07064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нформационно-образовательное 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19240">
                <a:tc>
                  <a:txBody>
                    <a:bodyPr lIns="90000" rIns="90000" tIns="1994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о-методическое и информационное 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40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418680"/>
            <a:ext cx="860292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Стратегия действий, 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ориентированных  на улучшение условий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546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ндарт нового поколения обязывает библиотеки существенно перестраивать свою работу по направле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вышение  квалификации библиотечных кадров,  соответствующих требованиям времени, стремящихся к инновациям  в профессиональной сфере, готовых к непрерывному процессу образования в течение вс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Формирование фондов  качественными источниками информации на разных носит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здание привлекательной, комфортной и дружественной библиотечно-образователь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цель  - преобразование библиотек в библиотечно-информационные цент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59976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Стратегия действий, 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ориентированных  на результат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Ориентация на комптентностный и системно-деятельностный подх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Изучение и включение в практику работы библиотеки эффективных техник и технолог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Работа в школьной команде по внедрению ФГ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Сотрудничество с педагог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8:03:49Z</dcterms:created>
  <dc:creator>user user</dc:creator>
  <dc:description>Сиреневая область заголовка с тремя сине-зелеными элементами на левой границе; серый фон</dc:description>
  <dc:language>en-US</dc:language>
  <cp:lastModifiedBy/>
  <cp:lastPrinted>2010-10-12T02:28:49Z</cp:lastPrinted>
  <cp:revision>1</cp:revision>
  <dc:subject/>
  <dc:title>Тонкие акценты</dc:title>
</cp:coreProperties>
</file>