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C95E-7856-43D2-8ED2-26F740001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7234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180320"/>
            <a:ext cx="7234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5670-8FA4-43E7-9093-962BA8E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376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8032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3760" y="418032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0EEE-410D-45DF-AA10-5D00AFE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3040" y="160920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8880" y="160920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18032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3040" y="418032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8880" y="4180320"/>
            <a:ext cx="2329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FBB4-B0D1-4ABB-8FC2-44111B5C2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9200"/>
            <a:ext cx="7234200" cy="49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BE0B-9BDD-45DD-802F-208FFE0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72342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9B82-48F1-4F9A-A454-14271164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3016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3760" y="1609200"/>
            <a:ext cx="353016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9505-C351-46FC-8EE6-EB2B699C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207C-FB58-45B2-B122-E9B2C611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72342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ABEF-9E88-44B9-8A6B-0125D08C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3760" y="1609200"/>
            <a:ext cx="353016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18032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2C3D-C686-436F-BA14-BD319B5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3016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376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3760" y="418032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82E7-8C26-43CC-8B56-6F9A0D63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3760" y="1609200"/>
            <a:ext cx="353016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80320"/>
            <a:ext cx="7234200" cy="23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6CA4-346E-4181-B49B-162EEDAA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342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9200"/>
            <a:ext cx="72342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19969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4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51040" y="6555960"/>
            <a:ext cx="582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08F2E-B5EA-401A-ABC1-0641B7DDB56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a34b73"/>
                </a:solidFill>
                <a:latin typeface="Trebuchet MS"/>
              </a:rPr>
              <a:t>Нормативно правовое обеспечение проведения государственной (итоговой) аттестации выпускников 9 классов в 2011 г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- Закон Российской Федерации «Об образовании»  от 10.07.1992 г. №3266-1 (с изменениями и дополнения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Статья 15. Общие требования к организации образовательного процесса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4. Освоение образовательных программ основного общего, среднего (полного) общего образования и профессиональных образовательных программ завершается обязательной итоговой аттестацией обуч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В образовательных учреждениях, имеющих государственную аккредитацию, освоение указанных образовательных программ завершается обязательной государственной (итоговой) аттестацией обуч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52f73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роки государственной (итоговой) аттестации выпускников, освоивших общеобразовательные программы основного общего образования, в новой форме в 2010/2011 учебном г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6 мая (четверг) – экзамен по русскому язы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 июня (среда) – экзамен по математ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 июня (вторник), 9 июня (четверг) – экзамен по географии, биологии, физики, химии, истории, обществознанию, литературе, английскому языку, информатике и ИК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11 июня (суббота)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– резервный день: русский язык, биология, химия, физика, информатика и И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15 июня (среда)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– резервный день: математика, история России, обществознание, география, английский язы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Продолжительность экзамен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ачало экзаменов в 10 часов по местному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тематика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24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4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усский язык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24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4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итература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24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4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ществознание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8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3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изика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8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3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тория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5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2,5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иология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5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2,5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имия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2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2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еография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2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2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нформатика и ИКТ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2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2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нглийский язык –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90 мин. (</a:t>
            </a:r>
            <a:r>
              <a:rPr b="0" i="1" lang="ru-RU" sz="2000" spc="-1" strike="noStrike">
                <a:solidFill>
                  <a:srgbClr val="b13f9a"/>
                </a:solidFill>
                <a:latin typeface="Trebuchet MS"/>
              </a:rPr>
              <a:t>1,5 ча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ремя устного ответа -6 мин. Время подготовки к ответу 8-1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Задачи на 2011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57200"/>
            <a:ext cx="746748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517680" indent="-225720">
              <a:lnSpc>
                <a:spcPct val="125000"/>
              </a:lnSpc>
              <a:spcBef>
                <a:spcPts val="499"/>
              </a:spcBef>
              <a:buClr>
                <a:srgbClr val="ffde66"/>
              </a:buClr>
              <a:buFont typeface="Wingdings 2" charset="2"/>
              <a:buChar char=""/>
              <a:tabLst>
                <a:tab algn="l" pos="5176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5011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SimSun"/>
              </a:rPr>
              <a:t>Продолжить апробацию проведения государственной (итоговой) аттестации выпускников, освоивших общеобразовательные программы основного общего образования, с использованием механизмов независимой оценки знаний путем создания территориальной экзаменационной коми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25720">
              <a:lnSpc>
                <a:spcPct val="125000"/>
              </a:lnSpc>
              <a:spcBef>
                <a:spcPts val="499"/>
              </a:spcBef>
              <a:buClr>
                <a:srgbClr val="ffde66"/>
              </a:buClr>
              <a:buFont typeface="Wingdings 2" charset="2"/>
              <a:buChar char=""/>
              <a:tabLst>
                <a:tab algn="l" pos="5176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5011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SimSun"/>
              </a:rPr>
              <a:t>Апробировать автоматическую обработку результатов экзаменационных работ по математике во всех территориях края (за исключением труднодоступн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25720">
              <a:lnSpc>
                <a:spcPct val="125000"/>
              </a:lnSpc>
              <a:spcBef>
                <a:spcPts val="499"/>
              </a:spcBef>
              <a:buClr>
                <a:srgbClr val="ffde66"/>
              </a:buClr>
              <a:buFont typeface="Wingdings 2" charset="2"/>
              <a:buChar char=""/>
              <a:tabLst>
                <a:tab algn="l" pos="5176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5011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SimSun"/>
              </a:rPr>
              <a:t>Создать территориальные округа для проведения государственной (итоговой) аттестации выпускников 9 классов в рамках становления региональной системы оценки качества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34b73"/>
                </a:solidFill>
                <a:latin typeface="Trebuchet MS"/>
              </a:rPr>
              <a:t>В 2011 году в Красноярском кра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1000080"/>
            <a:ext cx="750060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государственной (итоговой) аттестации в новой форме примут участ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27199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русскому и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7748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общество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3976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3108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1223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221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a34b73"/>
                </a:solidFill>
                <a:latin typeface="Trebuchet MS"/>
              </a:rPr>
              <a:t>696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46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англий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1423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учащихся по информатике и 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276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учащихся по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МИНИСТЕРСТВо </a:t>
            </a:r>
            <a:br>
              <a:rPr sz="2000"/>
            </a:b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образования и науки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 ПРИКАЗ от 24.03.2011г. № 40-04/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комендовать руководителям органов управления образованием муниципальных районов и городских округов края, за исключением муниципальных районов: Мотыгинский, Северо-Енисейский, Таймырский Долгано-Ненецкий, Туруханский, Эвенкийский и городского округа Норильск, </a:t>
            </a: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обеспечить использование программного комплекса «Технологическое обеспечение экзамена» при проведении экзамена</a:t>
            </a:r>
            <a:br>
              <a:rPr sz="2400"/>
            </a:br>
            <a:r>
              <a:rPr b="0" lang="ru-RU" sz="2400" spc="-1" strike="noStrike">
                <a:solidFill>
                  <a:srgbClr val="b13f9a"/>
                </a:solidFill>
                <a:latin typeface="Trebuchet MS"/>
              </a:rPr>
              <a:t>по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Регламент проведения апробации программного комплекса «Технологическое обеспечение экзамена»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МОУ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полнение модуля сбора данных для проведения экзамена(шаблон)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до 22 апрел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ение материалов экзамена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до 23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ставка материалов экзамена из территорий в РЦО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Бланк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2 июня 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. Красноярск, г. Сосновоборск, г. Дивногорск, Емельяновский район, Берёзовский рай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3 июн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все другие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Бланк №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до 6 июня включительно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едоставление результатов в территории -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10 июн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нформационная справка по апробации ТОЭ из территорий в «ЦОКО» –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24 ию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оздание территориальных округов для проведения ГИА-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844640"/>
            <a:ext cx="72388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Бирилюсский и Большеулуйский рай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Большемуртинский и Сухобузимский рай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г. Бородино и Рыбинский рай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Емельяновский район и п. Кедр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г. Енисейск и Енисейский рай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Идринский и Краснотуранский рай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г. Минусинск и Минусинский рай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г. Шарыпово и Шарыпов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45432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Font typeface="Trebuchet MS"/>
              <a:buAutoNum type="arabicPeriod"/>
              <a:tabLst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SimSun"/>
              </a:rPr>
              <a:t>Ужурский район и ЗАТО п. Солне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6280"/>
                <a:tab algn="l" pos="1193760"/>
                <a:tab algn="l" pos="1643040"/>
                <a:tab algn="l" pos="2092320"/>
                <a:tab algn="l" pos="2541600"/>
                <a:tab algn="l" pos="2990880"/>
                <a:tab algn="l" pos="3440160"/>
                <a:tab algn="l" pos="3889440"/>
                <a:tab algn="l" pos="4338720"/>
                <a:tab algn="l" pos="4788000"/>
                <a:tab algn="l" pos="5237280"/>
                <a:tab algn="l" pos="5686560"/>
                <a:tab algn="l" pos="6135840"/>
                <a:tab algn="l" pos="6585120"/>
                <a:tab algn="l" pos="7034040"/>
                <a:tab algn="l" pos="7483320"/>
                <a:tab algn="l" pos="7932600"/>
                <a:tab algn="l" pos="8381880"/>
                <a:tab algn="l" pos="8831160"/>
                <a:tab algn="l" pos="9280440"/>
                <a:tab algn="l" pos="9729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35080"/>
            <a:ext cx="7238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br>
              <a:rPr sz="3800"/>
            </a:br>
            <a:r>
              <a:rPr b="1" lang="ru-RU" sz="1800" spc="-1" strike="noStrike">
                <a:solidFill>
                  <a:srgbClr val="a34b73"/>
                </a:solidFill>
                <a:latin typeface="Trebuchet MS"/>
              </a:rPr>
              <a:t>Нормативно правовое обеспечение проведения государственной (итоговой) аттестации выпускников 9 классов в 2010 г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9640" algn="just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just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just">
              <a:lnSpc>
                <a:spcPct val="76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риказ Минобрнауки России от 03.12.1999 г. «Об утверждении положения о государственной (итоговой) аттестации выпускников IX и XI (XII) классов общеобразовательных учреждений Российской Федерации (Положение утратило силу в части проведения государственной (итоговой) аттестации выпускников XI (XII) классов общеобразовательных учреждений (Приказ Минобрнауки РФ от 28.11.2008 № 36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just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just">
              <a:lnSpc>
                <a:spcPct val="76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just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Организационно - методическое обеспечение проведения государственной (итоговой) аттестации выпускников IX классов  в 2011 г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143080"/>
            <a:ext cx="74674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исьма Рособрнадзора по проведению государственной (итоговой) аттестации обучающихся, освоивших образовательные программы основного общего образования, организуемой экзаменационными комиссиями, создаваемыми  органами исполнительной власти субъектов Российской Федерации, осуществляющими управление в сфере образования от 29.02.2008 г. № 01-96/08-01, от 20.03.2008 № 01-137/08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52f73"/>
                </a:solidFill>
                <a:latin typeface="Trebuchet MS"/>
              </a:rPr>
              <a:t>Письмо федеральной службы по надзору в сфере образования и науки от 23.12.2010 № 10-5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587520"/>
            <a:ext cx="7400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5d194f"/>
                </a:solidFill>
                <a:latin typeface="Trebuchet MS"/>
              </a:rPr>
              <a:t> 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МИНИСТЕРСТВО</a:t>
            </a:r>
            <a:br>
              <a:rPr sz="1800"/>
            </a:b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образования и науки Красноярского края</a:t>
            </a:r>
            <a:br>
              <a:rPr sz="1800"/>
            </a:b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 ПРИКАЗ от 16.03.2011г. № 25-04/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19120"/>
            <a:ext cx="746784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рядок проведения государственной (итоговой) аттестации выпускников IX классов общеобразовательных учреждений Красноярского края с участием территориальных экзаменационных комиссий (в новой форме) в 2011 г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ложение о территориальной экзаменационной комиссии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ложение о предметной подкомиссии территориальной экзаменационной комиссии;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ложение о территориальной конфликтной ко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ложение об  образовательном учреждении - пункте проведения экза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ён персональный состав территориальной экзаменационной комиссии,  территориальной конфликтной коми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Положение о предметных подкомиссиях ТЭ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133720"/>
            <a:ext cx="723888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ерку экзаменационных работ (заданий с развёрнутыми ответами) осуществляют специалисты-предметники, прошедшие специальную подготовку по проверке и оцениванию заданий с развёрнутым от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1120" y="360360"/>
            <a:ext cx="723924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МИНИСТЕРСТВ</a:t>
            </a:r>
            <a:r>
              <a:rPr b="1" lang="ru-RU" sz="1600" spc="-1" strike="noStrike">
                <a:solidFill>
                  <a:srgbClr val="852f73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 образования и науки   Красноярского края</a:t>
            </a:r>
            <a:br>
              <a:rPr sz="1800"/>
            </a:br>
            <a:r>
              <a:rPr b="1" lang="ru-RU" sz="2000" spc="-1" strike="noStrike">
                <a:solidFill>
                  <a:srgbClr val="852f7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62864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700280"/>
            <a:ext cx="7416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b80047"/>
                </a:solidFill>
                <a:latin typeface="Trebuchet MS"/>
              </a:rPr>
              <a:t>Утверждает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b80047"/>
                </a:solidFill>
                <a:latin typeface="Trebuchet MS"/>
              </a:rPr>
              <a:t>состав предметных подкомиссий территориальной экзаменационной коми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b80047"/>
                </a:solidFill>
                <a:latin typeface="Trebuchet MS"/>
              </a:rPr>
              <a:t>перечень  образовательных учреждений – пунктов проведения экзаменов в мае и июне 2011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b80047"/>
                </a:solidFill>
                <a:latin typeface="Trebuchet MS"/>
              </a:rPr>
              <a:t>список территориальных координаторов, ответственных за организацию и проведение ГИА-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муниципальные органы управления образованием 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рабатывают и утверждают Положение о муниципальной экзаменационной комиссии, утверждают персональный состав муниципальной экзаменационной коми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рабатывают и утверждают Положение об организации системы общественного наблюдения (контроля) за проведением государственной (итоговой) аттестации обучающихся, освоивших образовательные программы основного общего образования, с использованием механизмов независимой оценки знаний путём создания территориальной экзаменационной комиссии. Проводят аккредитацию общественных наблюд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52f73"/>
                </a:solidFill>
                <a:latin typeface="Trebuchet MS"/>
              </a:rPr>
              <a:t>порядок проведения государственной (итоговой) аттестации выпускников IX классов общеобразовательных учреждений Красноярского края с участием территориальной экзаменационной комиссии в 2011 г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357280"/>
            <a:ext cx="74674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 государственной (итоговой) аттестации в новой форме  допускаются обучающиеся IX классов, освоившие общеобразовательные программы основного общего образования и имеющие положительные годовые отметки по всем предметам учебного плана общеобразовательного учреждения, а также обучающиеся,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имеющие неудовлетворительную годовую отметку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по одному предмету учебного плана с обязательной сдачей экзамена по этому предмету.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720720"/>
            <a:ext cx="8047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b80047"/>
                </a:solidFill>
                <a:latin typeface="Trebuchet MS"/>
              </a:rPr>
              <a:t>Выпускники IX классов, получившие на экзамене в новой форме неудовлетворительную отметку, допускаются к повторной государственной (итоговой) аттестации при условии, что суммарно с учетом всех экзаменов на государственной (итоговой) аттестации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ими получено не более двух неудовлетворительных отм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rebuchet MS"/>
              </a:rPr>
              <a:t>Повторная государственная (итоговая) аттестация проводится в традиционной форме до 22 июня 2011 год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rebuchet MS"/>
              </a:rPr>
              <a:t>20 июня (понедельник) – матема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rebuchet MS"/>
              </a:rPr>
              <a:t>22 июня (среда) – русский</a:t>
            </a:r>
            <a:r>
              <a:rPr b="1" lang="ru-RU" sz="2000" spc="-1" strike="noStrike">
                <a:solidFill>
                  <a:srgbClr val="b80047"/>
                </a:solidFill>
                <a:latin typeface="Trebuchet MS"/>
              </a:rPr>
              <a:t>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63086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yneko</cp:lastModifiedBy>
  <dcterms:modified xsi:type="dcterms:W3CDTF">2011-04-12T06:25:29Z</dcterms:modified>
  <cp:revision>3</cp:revision>
  <dc:subject/>
  <dc:title>Нормативно правовое обеспечение проведения государственной (итоговой) аттестации выпускников 9 классов в 2011 году</dc:title>
</cp:coreProperties>
</file>