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6B3-749F-40BA-9F05-74251812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618-8D84-40E3-ADF3-27E8CAB5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CA5-5A13-48FC-9D7F-C16D0627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EAE-F564-4EB6-9C3B-88257914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E93-191F-429B-9FFE-8682562F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265-6C5A-47A2-89B0-8DE9E7F7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6B8-44E6-45D1-95AF-87A444D3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B7E-C496-41EB-8224-586DDEDC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36C-81B0-4351-8AF5-1C299B8D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194-236A-49CE-A67B-453FB65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77E-DFD5-4FAF-8DF5-A01E231D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0F9-385B-4235-B1D1-D97C722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2B45AE-D97E-4D35-9065-20512536DD8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итоги олимпиады 2009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олимпиады 200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лось количество предметов, по которым проводилась олимпи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жняется работа в практической части олимпиад, практическая часть очень затратна по ресурсному обесп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жняется процедура проведения олимпиад (иностранные  языки, физкульту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 проведения некоторых олимпиад 5-6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лась отчетность до и после олимпи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ился новый формат оформления сводной заявки на участие в региональном 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 участия школьников г.Лесосибирска в олимпиадном дви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240" y="1601640"/>
          <a:ext cx="908352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1601640"/>
                    <a:ext cx="90835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 участия школьник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. Лесосибирска в олимпиадном дви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-396720" y="1241280"/>
          <a:ext cx="820872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1241280"/>
                    <a:ext cx="820872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524720" y="3141720"/>
          <a:ext cx="1440000" cy="59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3141720"/>
                    <a:ext cx="1440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 участия школьников г.Лесосибирска в краевом форуме «Молодежь и на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1600200"/>
          <a:ext cx="8424720" cy="50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00200"/>
                    <a:ext cx="842472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2412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по стандарту выполнения зад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9280" y="1628640"/>
          <a:ext cx="8785440" cy="4562640"/>
        </p:xfrm>
        <a:graphic>
          <a:graphicData uri="http://schemas.openxmlformats.org/drawingml/2006/table">
            <a:tbl>
              <a:tblPr/>
              <a:tblGrid>
                <a:gridCol w="627120"/>
                <a:gridCol w="628560"/>
                <a:gridCol w="627120"/>
                <a:gridCol w="628560"/>
                <a:gridCol w="627120"/>
                <a:gridCol w="625680"/>
                <a:gridCol w="630000"/>
                <a:gridCol w="627120"/>
                <a:gridCol w="625680"/>
                <a:gridCol w="630000"/>
                <a:gridCol w="625680"/>
                <a:gridCol w="630000"/>
                <a:gridCol w="625680"/>
                <a:gridCol w="627120"/>
              </a:tblGrid>
              <a:tr h="104472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8a4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-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8a4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8a4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.я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8a4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.я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</a:t>
                      </a: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3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5,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9,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0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1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3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 (4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8,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1,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(1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 (4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1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(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(9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9,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7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(1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(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9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 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4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5,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9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,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(1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ональная результативность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507520" cy="4278240"/>
        </p:xfrm>
        <a:graphic>
          <a:graphicData uri="http://schemas.openxmlformats.org/drawingml/2006/table">
            <a:tbl>
              <a:tblPr/>
              <a:tblGrid>
                <a:gridCol w="1604880"/>
                <a:gridCol w="1604880"/>
                <a:gridCol w="2087640"/>
                <a:gridCol w="1604880"/>
                <a:gridCol w="1605240"/>
              </a:tblGrid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Ш 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олдина С.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стория, общество, эк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олосова Т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Лиц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нгл.я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алова Л.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.я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хледе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з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сакова Г.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вчик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ина И.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-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балина Л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втович Н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огданова Л.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учекова О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чагина И.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ева С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миных Т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360"/>
            <a:ext cx="9144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ональная результативность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268280"/>
          <a:ext cx="8229600" cy="5029200"/>
        </p:xfrm>
        <a:graphic>
          <a:graphicData uri="http://schemas.openxmlformats.org/drawingml/2006/table">
            <a:tbl>
              <a:tblPr/>
              <a:tblGrid>
                <a:gridCol w="946080"/>
                <a:gridCol w="3024360"/>
                <a:gridCol w="1515960"/>
                <a:gridCol w="2743200"/>
              </a:tblGrid>
              <a:tr h="24552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 участ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учас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400">
                <a:tc rowSpan="2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йрыш Елиза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литера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англий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рус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льмах Ив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немец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й результат -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400">
                <a:tc rowSpan="4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кулова Эльви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би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рус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ов Саш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англий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 - физкуль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Ш №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хтин Ар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инфор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й результат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й результат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4960">
                <a:tc vMerge="1"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Ш №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й Влади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хим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– рус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би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езультат – англий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7:21:26Z</dcterms:created>
  <dc:creator>Директор</dc:creator>
  <dc:description/>
  <dc:language>en-US</dc:language>
  <cp:lastModifiedBy>Ученик</cp:lastModifiedBy>
  <dcterms:modified xsi:type="dcterms:W3CDTF">2010-03-18T04:10:00Z</dcterms:modified>
  <cp:revision>5</cp:revision>
  <dc:subject/>
  <dc:title>Некоторые итоги олимпиады 2009 года</dc:title>
</cp:coreProperties>
</file>