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A2D4F-9241-45B0-9AE9-0F63E64D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65D5-366E-46DE-BFD9-F2F8A759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13B74-EB68-4FFB-BF91-D173F520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948B7-CE1F-41C7-AD3A-0CDB190F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2C53-4B3C-4EDB-8793-0D2C4292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E251-3385-4689-99FB-08E73362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9EF7-AA1D-4464-B25F-4C10E188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2472-BB9E-4162-A734-6A9B5656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A115-1C05-4104-A8AA-D034FB3E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0734-164A-43D7-9899-46A6EE56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5052-B90D-44B0-A2E0-45C3E56D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090FA-3A73-48B0-A65A-E2C3A285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DAAF-90AD-4995-A182-E24FFDC4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02F2-A887-4889-AD60-2B5E339A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A341-97E5-465F-B3E9-A62D10A1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4906-9A90-46FF-979D-7FEA9D18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B745-A678-476C-86D4-F00AD8BF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3E939-F74B-4C57-9B20-2424D49A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95C73-7F60-49CB-8804-C5D4126E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8E19-7683-4E40-9903-0E74736D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CAAC-0434-4273-900A-D4ED8149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0A782-A3F0-4C0B-8EB8-57DAA48E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D216D-C002-41C1-BD99-4FB97618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E90F8-D9DA-4A18-B6C2-0C287F95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2FC5-48B1-4A79-9AD3-3EBFDBDCA5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7E43-3A77-4E3A-BB6A-6F44A3B813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ff"/>
                </a:solidFill>
                <a:latin typeface="Arial"/>
              </a:rPr>
              <a:t>Базовая школа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МОУ «СОШ № 6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Формы  популяции имиджа школ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дение Публичного отч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бликации в городской газете  материалов  о жизни школы, ее достижен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формление информационных стен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ние  диалоговых площадок  с родителями: родительские собрания, консультации, Дни открытых дверей, привлечение родителей к  участию в школьных и классных мероприят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и образовательных возможностей шк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аботка  аннотаций  курсов по выбору и презентация курсов по выб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Перспектива  развития базово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ершенствование  материально-технической базы, оснащение  предметных кабине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ое  использование  возможностей  информационных технолог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т профессиональной компетентности  педагогов  профильной шк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стижение образовательного результата как эффективности работы  базовой шк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позитивного отношения  учащихся и родителей  к школе, широкое вовлечение родительской общественности  в учебно-воспитательный проце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Задачи базовой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  обучающимся  высокого  уровня  основного   общего   и среднего    (полного)   общего   образования,   необходимого    для продолжения  обучения в учебных заведениях начального,  среднего и  высшего  профессионального  образования;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 выравнивание  условий  для  получения  всеми   обучающимися полноценного   образования,   в   том   числе   путем    реализации предпрофильной  подготовки и профильного обучения,  образовательных  программ  допрофессиональной подготовки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создание  условий  для всесторонней  подготовки  учащихся  к самостоятельной  жизни и к труду, социальному  и  профессиональному самоопределе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оздание условий для сохранения здоровья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 общественной составляющей в управлении школ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70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Действующие компоненты Базовой школы №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332208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2016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едпрофильное и профильное обучение , реализация  ИУ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Управляющий Со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Ежегодный  Публичный отч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Наличие   необходимой материально-технической б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Наличие школьного сайта и Интерн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Внедрение новых педагогических технологий в, т. ч .  Информацио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Участие школы во внешней экспертизе  качества обученности выпуск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Соответствие  организации УВП требованиям и нормам СанПи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Опыт консолидации  ресурсов  средней образовательной школы ,  учреждения начального профессионального   образования, учреждений  дополнительно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Школа является социокультурным центром  посел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Одно из важных направление работы базовой школы- профиль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фильное обуч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редство получения нового образовательного результата, способствующего успешной социализации личност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профилиза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оздать такие условия в школе, чтобы каждый ученик нашел себя, понял, к какой сфере деятельности он склонен и наиболее способен,  помочь старшекласснику решить задачу профессионального и жизненного самоопределени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6960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Модели профильного обучения в 2008/9 уч.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125360"/>
            <a:ext cx="7696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1197000"/>
            <a:ext cx="7559640" cy="1511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 класс- предпрофильная подгот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2852640"/>
            <a:ext cx="7559640" cy="158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 класс  - модель внутришкольной профилизации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учение по ИУ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4653000"/>
            <a:ext cx="7559640" cy="1440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- класс-мод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тевого  взаимодействия  с учреждением  нач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фессионального образования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фили: оборонно-спортивный и техн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628640"/>
            <a:ext cx="431640" cy="1152720"/>
          </a:xfrm>
          <a:custGeom>
            <a:avLst/>
            <a:gdLst>
              <a:gd name="textAreaLeft" fmla="*/ 57600 w 431640"/>
              <a:gd name="textAreaRight" fmla="*/ 374040 w 431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3284640"/>
            <a:ext cx="431640" cy="1152360"/>
          </a:xfrm>
          <a:custGeom>
            <a:avLst/>
            <a:gdLst>
              <a:gd name="textAreaLeft" fmla="*/ 57600 w 431640"/>
              <a:gd name="textAreaRight" fmla="*/ 374040 w 43164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Регламент по формированию учебного плана  10-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  образовательных  запросов  учащихся 9-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 анкетирование  учащихся и их родителей по определению  предметных предпочтений, собеседования, родительские собра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езультатов обучения выпускников основной школы (анализ посещения курсов по выбору в рамках ППП, итоговые отметки за курс основной школы, результаты  аттестации, анализ выбора  экзамена за курс основной школ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 образовательных ресурсов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ие набора  учебных предметов базового и профильного уровней, предлагаемых для освоения школ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 индивидуальных планов учениками, согласование их с родител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профильных груп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учебных планов  профильных груп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учебного плана 10-х клас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распис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Формирование групп по ИУ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692280"/>
          <a:ext cx="8280360" cy="6210000"/>
        </p:xfrm>
        <a:graphic>
          <a:graphicData uri="http://schemas.openxmlformats.org/drawingml/2006/table">
            <a:tbl>
              <a:tblPr/>
              <a:tblGrid>
                <a:gridCol w="1403280"/>
                <a:gridCol w="4422960"/>
                <a:gridCol w="24541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по составу профильных предм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о уч-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-хим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 - матема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-обществозн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-физкуль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-информа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-биолог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 - биология-хим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- обществоведение - физкуль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- информа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- физкуль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- обществовед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-хим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 - биолог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- информа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-биолог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- физкуль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а-обществозн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а-информа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а- биолог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 - информа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- обществоведение - биолог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версальный профи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Учебный план группы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Химия – Математика  (  3 человека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765000"/>
          <a:ext cx="8229600" cy="6140520"/>
        </p:xfrm>
        <a:graphic>
          <a:graphicData uri="http://schemas.openxmlformats.org/drawingml/2006/table">
            <a:tbl>
              <a:tblPr/>
              <a:tblGrid>
                <a:gridCol w="515880"/>
                <a:gridCol w="6701040"/>
                <a:gridCol w="1012680"/>
              </a:tblGrid>
              <a:tr h="231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е учебные предме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предм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час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е учебные предметы  по выбо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безопасности жизнедеятель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уров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Р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регионального развит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ивные курс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Проблемы  в организации обучения по И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ческий дефиц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грузка  количества учащихся при выборе кур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широкий спектр программ элективных курсов, рекомендованных Министерством образования и нау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формированность форм преемственности методов и средств обучения при переходе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упень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статочная кадровая подготовка  педагогов для работы  в профильной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20:32:40Z</dcterms:created>
  <dc:creator>Кужины</dc:creator>
  <dc:description/>
  <dc:language>en-US</dc:language>
  <cp:lastModifiedBy>Пользователь</cp:lastModifiedBy>
  <dcterms:modified xsi:type="dcterms:W3CDTF">2009-01-27T02:25:25Z</dcterms:modified>
  <cp:revision>36</cp:revision>
  <dc:subject/>
  <dc:title>Научно-методическое сопровождение педагогов школы по реализации профильного обучения</dc:title>
</cp:coreProperties>
</file>