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199189736664416"/>
          <c:y val="0.0595570232875932"/>
          <c:w val="0.966351564258384"/>
          <c:h val="0.940101349427774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2010 г.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General" sourceLinked="0"/>
            <c:txPr>
              <a:bodyPr wrap="none"/>
              <a:lstStyle/>
              <a:p>
                <a:pPr>
                  <a:defRPr b="1" sz="14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2"/>
                <c:pt idx="0">
                  <c:v>Литература</c:v>
                </c:pt>
                <c:pt idx="1">
                  <c:v>Совр. дет. литература</c:v>
                </c:pt>
                <c:pt idx="2">
                  <c:v>Русский язык</c:v>
                </c:pt>
                <c:pt idx="3">
                  <c:v>Иностранные языки</c:v>
                </c:pt>
                <c:pt idx="4">
                  <c:v>История. Краевед.</c:v>
                </c:pt>
                <c:pt idx="5">
                  <c:v>МХК</c:v>
                </c:pt>
                <c:pt idx="6">
                  <c:v> География</c:v>
                </c:pt>
                <c:pt idx="7">
                  <c:v>Математика</c:v>
                </c:pt>
                <c:pt idx="8">
                  <c:v>Биология и медицина</c:v>
                </c:pt>
                <c:pt idx="9">
                  <c:v>Информатика и ИКТ</c:v>
                </c:pt>
                <c:pt idx="10">
                  <c:v>Физика</c:v>
                </c:pt>
                <c:pt idx="11">
                  <c:v>Экология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2"/>
                <c:pt idx="0">
                  <c:v>4</c:v>
                </c:pt>
                <c:pt idx="1">
                  <c:v>3</c:v>
                </c:pt>
                <c:pt idx="2">
                  <c:v>7</c:v>
                </c:pt>
                <c:pt idx="3">
                  <c:v>6</c:v>
                </c:pt>
                <c:pt idx="4">
                  <c:v>7</c:v>
                </c:pt>
                <c:pt idx="5">
                  <c:v>6</c:v>
                </c:pt>
                <c:pt idx="6">
                  <c:v>0</c:v>
                </c:pt>
                <c:pt idx="7">
                  <c:v>10</c:v>
                </c:pt>
                <c:pt idx="8">
                  <c:v>9</c:v>
                </c:pt>
                <c:pt idx="9">
                  <c:v>5</c:v>
                </c:pt>
                <c:pt idx="10">
                  <c:v>0</c:v>
                </c:pt>
                <c:pt idx="11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2011 г.</c:v>
                </c:pt>
              </c:strCache>
            </c:strRef>
          </c:tx>
          <c:spPr>
            <a:solidFill>
              <a:srgbClr val="83caff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General" sourceLinked="0"/>
            <c:txPr>
              <a:bodyPr wrap="none"/>
              <a:lstStyle/>
              <a:p>
                <a:pPr>
                  <a:defRPr b="1" sz="14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2"/>
                <c:pt idx="0">
                  <c:v>Литература</c:v>
                </c:pt>
                <c:pt idx="1">
                  <c:v>Совр. дет. литература</c:v>
                </c:pt>
                <c:pt idx="2">
                  <c:v>Русский язык</c:v>
                </c:pt>
                <c:pt idx="3">
                  <c:v>Иностранные языки</c:v>
                </c:pt>
                <c:pt idx="4">
                  <c:v>История. Краевед.</c:v>
                </c:pt>
                <c:pt idx="5">
                  <c:v>МХК</c:v>
                </c:pt>
                <c:pt idx="6">
                  <c:v> География</c:v>
                </c:pt>
                <c:pt idx="7">
                  <c:v>Математика</c:v>
                </c:pt>
                <c:pt idx="8">
                  <c:v>Биология и медицина</c:v>
                </c:pt>
                <c:pt idx="9">
                  <c:v>Информатика и ИКТ</c:v>
                </c:pt>
                <c:pt idx="10">
                  <c:v>Физика</c:v>
                </c:pt>
                <c:pt idx="11">
                  <c:v>Экология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2"/>
                <c:pt idx="0">
                  <c:v>7</c:v>
                </c:pt>
                <c:pt idx="1">
                  <c:v>0</c:v>
                </c:pt>
                <c:pt idx="2">
                  <c:v>11</c:v>
                </c:pt>
                <c:pt idx="3">
                  <c:v>7</c:v>
                </c:pt>
                <c:pt idx="4">
                  <c:v>9</c:v>
                </c:pt>
                <c:pt idx="5">
                  <c:v>4</c:v>
                </c:pt>
                <c:pt idx="6">
                  <c:v>2</c:v>
                </c:pt>
                <c:pt idx="7">
                  <c:v>7</c:v>
                </c:pt>
                <c:pt idx="8">
                  <c:v>9</c:v>
                </c:pt>
                <c:pt idx="9">
                  <c:v>2</c:v>
                </c:pt>
                <c:pt idx="10">
                  <c:v>6</c:v>
                </c:pt>
                <c:pt idx="11">
                  <c:v>3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2012 г.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General" sourceLinked="0"/>
            <c:txPr>
              <a:bodyPr wrap="none"/>
              <a:lstStyle/>
              <a:p>
                <a:pPr>
                  <a:defRPr b="1" sz="14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2"/>
                <c:pt idx="0">
                  <c:v>Литература</c:v>
                </c:pt>
                <c:pt idx="1">
                  <c:v>Совр. дет. литература</c:v>
                </c:pt>
                <c:pt idx="2">
                  <c:v>Русский язык</c:v>
                </c:pt>
                <c:pt idx="3">
                  <c:v>Иностранные языки</c:v>
                </c:pt>
                <c:pt idx="4">
                  <c:v>История. Краевед.</c:v>
                </c:pt>
                <c:pt idx="5">
                  <c:v>МХК</c:v>
                </c:pt>
                <c:pt idx="6">
                  <c:v> География</c:v>
                </c:pt>
                <c:pt idx="7">
                  <c:v>Математика</c:v>
                </c:pt>
                <c:pt idx="8">
                  <c:v>Биология и медицина</c:v>
                </c:pt>
                <c:pt idx="9">
                  <c:v>Информатика и ИКТ</c:v>
                </c:pt>
                <c:pt idx="10">
                  <c:v>Физика</c:v>
                </c:pt>
                <c:pt idx="11">
                  <c:v>Экология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12"/>
                <c:pt idx="0">
                  <c:v>9</c:v>
                </c:pt>
                <c:pt idx="1">
                  <c:v>0</c:v>
                </c:pt>
                <c:pt idx="2">
                  <c:v>7</c:v>
                </c:pt>
                <c:pt idx="3">
                  <c:v>6</c:v>
                </c:pt>
                <c:pt idx="4">
                  <c:v>7</c:v>
                </c:pt>
                <c:pt idx="5">
                  <c:v>7</c:v>
                </c:pt>
                <c:pt idx="6">
                  <c:v>3</c:v>
                </c:pt>
                <c:pt idx="7">
                  <c:v>9</c:v>
                </c:pt>
                <c:pt idx="8">
                  <c:v>8</c:v>
                </c:pt>
                <c:pt idx="9">
                  <c:v>4</c:v>
                </c:pt>
                <c:pt idx="10">
                  <c:v>3</c:v>
                </c:pt>
                <c:pt idx="11">
                  <c:v>6</c:v>
                </c:pt>
              </c:numCache>
            </c:numRef>
          </c:val>
        </c:ser>
        <c:gapWidth val="100"/>
        <c:overlap val="0"/>
        <c:axId val="11420334"/>
        <c:axId val="73565558"/>
      </c:barChart>
      <c:catAx>
        <c:axId val="1142033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 rot="-5400000"/>
          <a:lstStyle/>
          <a:p>
            <a:pPr>
              <a:defRPr b="0" sz="14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565558"/>
        <c:crosses val="autoZero"/>
        <c:auto val="1"/>
        <c:lblAlgn val="ctr"/>
        <c:lblOffset val="100"/>
        <c:noMultiLvlLbl val="0"/>
      </c:catAx>
      <c:valAx>
        <c:axId val="735655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4203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86446845224698"/>
          <c:y val="0.0477139440870011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6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2010 г.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General" sourceLinked="0"/>
            <c:txPr>
              <a:bodyPr wrap="none"/>
              <a:lstStyle/>
              <a:p>
                <a:pPr>
                  <a:defRPr b="1" sz="14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9"/>
                <c:pt idx="0">
                  <c:v>Литература</c:v>
                </c:pt>
                <c:pt idx="1">
                  <c:v>Русский язык</c:v>
                </c:pt>
                <c:pt idx="2">
                  <c:v>Иностранные языки</c:v>
                </c:pt>
                <c:pt idx="3">
                  <c:v>Обществознание. Право.</c:v>
                </c:pt>
                <c:pt idx="4">
                  <c:v>История. Краеведение.</c:v>
                </c:pt>
                <c:pt idx="5">
                  <c:v>МХК</c:v>
                </c:pt>
                <c:pt idx="6">
                  <c:v>Экономика. География</c:v>
                </c:pt>
                <c:pt idx="7">
                  <c:v>Социология</c:v>
                </c:pt>
                <c:pt idx="8">
                  <c:v>Педагогика и психология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9"/>
                <c:pt idx="0">
                  <c:v>10</c:v>
                </c:pt>
                <c:pt idx="1">
                  <c:v>9</c:v>
                </c:pt>
                <c:pt idx="2">
                  <c:v>9</c:v>
                </c:pt>
                <c:pt idx="3">
                  <c:v>4</c:v>
                </c:pt>
                <c:pt idx="4">
                  <c:v>1</c:v>
                </c:pt>
                <c:pt idx="5">
                  <c:v>0</c:v>
                </c:pt>
                <c:pt idx="6">
                  <c:v>7</c:v>
                </c:pt>
                <c:pt idx="7">
                  <c:v>4</c:v>
                </c:pt>
                <c:pt idx="8">
                  <c:v>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2011 г.</c:v>
                </c:pt>
              </c:strCache>
            </c:strRef>
          </c:tx>
          <c:spPr>
            <a:solidFill>
              <a:srgbClr val="83caff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General" sourceLinked="0"/>
            <c:txPr>
              <a:bodyPr wrap="none"/>
              <a:lstStyle/>
              <a:p>
                <a:pPr>
                  <a:defRPr b="1" sz="14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9"/>
                <c:pt idx="0">
                  <c:v>Литература</c:v>
                </c:pt>
                <c:pt idx="1">
                  <c:v>Русский язык</c:v>
                </c:pt>
                <c:pt idx="2">
                  <c:v>Иностранные языки</c:v>
                </c:pt>
                <c:pt idx="3">
                  <c:v>Обществознание. Право.</c:v>
                </c:pt>
                <c:pt idx="4">
                  <c:v>История. Краеведение.</c:v>
                </c:pt>
                <c:pt idx="5">
                  <c:v>МХК</c:v>
                </c:pt>
                <c:pt idx="6">
                  <c:v>Экономика. География</c:v>
                </c:pt>
                <c:pt idx="7">
                  <c:v>Социология</c:v>
                </c:pt>
                <c:pt idx="8">
                  <c:v>Педагогика и психология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9"/>
                <c:pt idx="0">
                  <c:v>8</c:v>
                </c:pt>
                <c:pt idx="1">
                  <c:v>9</c:v>
                </c:pt>
                <c:pt idx="2">
                  <c:v>8</c:v>
                </c:pt>
                <c:pt idx="3">
                  <c:v>6</c:v>
                </c:pt>
                <c:pt idx="4">
                  <c:v>9</c:v>
                </c:pt>
                <c:pt idx="5">
                  <c:v>5</c:v>
                </c:pt>
                <c:pt idx="6">
                  <c:v>4</c:v>
                </c:pt>
                <c:pt idx="7">
                  <c:v>0</c:v>
                </c:pt>
                <c:pt idx="8">
                  <c:v>0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2012 г.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General" sourceLinked="0"/>
            <c:txPr>
              <a:bodyPr wrap="none"/>
              <a:lstStyle/>
              <a:p>
                <a:pPr>
                  <a:defRPr b="1" sz="14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9"/>
                <c:pt idx="0">
                  <c:v>Литература</c:v>
                </c:pt>
                <c:pt idx="1">
                  <c:v>Русский язык</c:v>
                </c:pt>
                <c:pt idx="2">
                  <c:v>Иностранные языки</c:v>
                </c:pt>
                <c:pt idx="3">
                  <c:v>Обществознание. Право.</c:v>
                </c:pt>
                <c:pt idx="4">
                  <c:v>История. Краеведение.</c:v>
                </c:pt>
                <c:pt idx="5">
                  <c:v>МХК</c:v>
                </c:pt>
                <c:pt idx="6">
                  <c:v>Экономика. География</c:v>
                </c:pt>
                <c:pt idx="7">
                  <c:v>Социология</c:v>
                </c:pt>
                <c:pt idx="8">
                  <c:v>Педагогика и психология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9"/>
                <c:pt idx="0">
                  <c:v>2</c:v>
                </c:pt>
                <c:pt idx="1">
                  <c:v>7</c:v>
                </c:pt>
                <c:pt idx="2">
                  <c:v>3</c:v>
                </c:pt>
                <c:pt idx="3">
                  <c:v>5</c:v>
                </c:pt>
                <c:pt idx="4">
                  <c:v>6</c:v>
                </c:pt>
                <c:pt idx="5">
                  <c:v>1</c:v>
                </c:pt>
                <c:pt idx="6">
                  <c:v>7</c:v>
                </c:pt>
                <c:pt idx="7">
                  <c:v>4</c:v>
                </c:pt>
                <c:pt idx="8">
                  <c:v>4</c:v>
                </c:pt>
              </c:numCache>
            </c:numRef>
          </c:val>
        </c:ser>
        <c:gapWidth val="100"/>
        <c:overlap val="0"/>
        <c:axId val="54078273"/>
        <c:axId val="92118205"/>
      </c:barChart>
      <c:catAx>
        <c:axId val="5407827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 rot="-5400000"/>
          <a:lstStyle/>
          <a:p>
            <a:pPr>
              <a:defRPr b="0" sz="15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118205"/>
        <c:crosses val="autoZero"/>
        <c:auto val="1"/>
        <c:lblAlgn val="ctr"/>
        <c:lblOffset val="100"/>
        <c:noMultiLvlLbl val="0"/>
      </c:catAx>
      <c:valAx>
        <c:axId val="921182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0782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856225352112676"/>
          <c:y val="0.0551099908340972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6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19943661971831"/>
          <c:y val="0.0595931893497886"/>
          <c:w val="0.979943661971831"/>
          <c:h val="0.94006399268655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2010 г.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General" sourceLinked="0"/>
            <c:txPr>
              <a:bodyPr wrap="none"/>
              <a:lstStyle/>
              <a:p>
                <a:pPr>
                  <a:defRPr b="0" sz="15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Экология</c:v>
                </c:pt>
                <c:pt idx="1">
                  <c:v>Биология. Медицина.</c:v>
                </c:pt>
                <c:pt idx="2">
                  <c:v>Химия</c:v>
                </c:pt>
                <c:pt idx="3">
                  <c:v>Математика</c:v>
                </c:pt>
                <c:pt idx="4">
                  <c:v>Информатика. ИКТ.</c:v>
                </c:pt>
                <c:pt idx="5">
                  <c:v>Физика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3</c:v>
                </c:pt>
                <c:pt idx="1">
                  <c:v>4</c:v>
                </c:pt>
                <c:pt idx="2">
                  <c:v>3</c:v>
                </c:pt>
                <c:pt idx="3">
                  <c:v>8</c:v>
                </c:pt>
                <c:pt idx="4">
                  <c:v>0</c:v>
                </c:pt>
                <c:pt idx="5">
                  <c:v>1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2011 г.</c:v>
                </c:pt>
              </c:strCache>
            </c:strRef>
          </c:tx>
          <c:spPr>
            <a:solidFill>
              <a:srgbClr val="83caff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General" sourceLinked="0"/>
            <c:txPr>
              <a:bodyPr wrap="none"/>
              <a:lstStyle/>
              <a:p>
                <a:pPr>
                  <a:defRPr b="0" sz="15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Экология</c:v>
                </c:pt>
                <c:pt idx="1">
                  <c:v>Биология. Медицина.</c:v>
                </c:pt>
                <c:pt idx="2">
                  <c:v>Химия</c:v>
                </c:pt>
                <c:pt idx="3">
                  <c:v>Математика</c:v>
                </c:pt>
                <c:pt idx="4">
                  <c:v>Информатика. ИКТ.</c:v>
                </c:pt>
                <c:pt idx="5">
                  <c:v>Физика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6"/>
                <c:pt idx="0">
                  <c:v>6</c:v>
                </c:pt>
                <c:pt idx="1">
                  <c:v>9</c:v>
                </c:pt>
                <c:pt idx="2">
                  <c:v>7</c:v>
                </c:pt>
                <c:pt idx="3">
                  <c:v>10</c:v>
                </c:pt>
                <c:pt idx="4">
                  <c:v>2</c:v>
                </c:pt>
                <c:pt idx="5">
                  <c:v>4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2012 г.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General" sourceLinked="0"/>
            <c:txPr>
              <a:bodyPr wrap="none"/>
              <a:lstStyle/>
              <a:p>
                <a:pPr>
                  <a:defRPr b="0" sz="15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Экология</c:v>
                </c:pt>
                <c:pt idx="1">
                  <c:v>Биология. Медицина.</c:v>
                </c:pt>
                <c:pt idx="2">
                  <c:v>Химия</c:v>
                </c:pt>
                <c:pt idx="3">
                  <c:v>Математика</c:v>
                </c:pt>
                <c:pt idx="4">
                  <c:v>Информатика. ИКТ.</c:v>
                </c:pt>
                <c:pt idx="5">
                  <c:v>Физика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6"/>
                <c:pt idx="0">
                  <c:v>4</c:v>
                </c:pt>
                <c:pt idx="1">
                  <c:v>7</c:v>
                </c:pt>
                <c:pt idx="2">
                  <c:v>6</c:v>
                </c:pt>
                <c:pt idx="3">
                  <c:v>6</c:v>
                </c:pt>
                <c:pt idx="4">
                  <c:v>1</c:v>
                </c:pt>
                <c:pt idx="5">
                  <c:v>9</c:v>
                </c:pt>
              </c:numCache>
            </c:numRef>
          </c:val>
        </c:ser>
        <c:gapWidth val="100"/>
        <c:overlap val="0"/>
        <c:axId val="6130429"/>
        <c:axId val="80432106"/>
      </c:barChart>
      <c:catAx>
        <c:axId val="613042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432106"/>
        <c:crosses val="autoZero"/>
        <c:auto val="1"/>
        <c:lblAlgn val="ctr"/>
        <c:lblOffset val="100"/>
        <c:noMultiLvlLbl val="0"/>
      </c:catAx>
      <c:valAx>
        <c:axId val="804321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304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0544976525821596"/>
          <c:y val="0.0483373328762427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6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199523740799538"/>
          <c:y val="0.0198422924290058"/>
          <c:w val="0.969223553182277"/>
          <c:h val="0.940112353759728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2010 г</c:v>
                </c:pt>
              </c:strCache>
            </c:strRef>
          </c:tx>
          <c:spPr>
            <a:solidFill>
              <a:srgbClr val="ccffff"/>
            </a:solidFill>
            <a:ln w="0">
              <a:solidFill>
                <a:srgbClr val="000000"/>
              </a:solidFill>
            </a:ln>
          </c:spPr>
          <c:invertIfNegative val="0"/>
          <c:dPt>
            <c:idx val="0"/>
            <c:invertIfNegative val="0"/>
            <c:spPr>
              <a:solidFill>
                <a:srgbClr val="ccffff"/>
              </a:solidFill>
              <a:ln w="0">
                <a:solidFill>
                  <a:srgbClr val="000000"/>
                </a:solidFill>
              </a:ln>
            </c:spPr>
          </c:dPt>
          <c:dLbls>
            <c:numFmt formatCode="General" sourceLinked="0"/>
            <c:dLbl>
              <c:idx val="0"/>
              <c:numFmt formatCode="General" sourceLinked="0"/>
              <c:txPr>
                <a:bodyPr wrap="none"/>
                <a:lstStyle/>
                <a:p>
                  <a:pPr>
                    <a:defRPr b="1" sz="14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1" sz="14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3"/>
                <c:pt idx="0">
                  <c:v>СОШ 1</c:v>
                </c:pt>
                <c:pt idx="1">
                  <c:v>СОШ 2</c:v>
                </c:pt>
                <c:pt idx="2">
                  <c:v>СОШ 4</c:v>
                </c:pt>
                <c:pt idx="3">
                  <c:v>ООШ 5</c:v>
                </c:pt>
                <c:pt idx="4">
                  <c:v>СОШ 6</c:v>
                </c:pt>
                <c:pt idx="5">
                  <c:v>СОШ 8</c:v>
                </c:pt>
                <c:pt idx="6">
                  <c:v>СОШ 9</c:v>
                </c:pt>
                <c:pt idx="7">
                  <c:v>СОШ 18</c:v>
                </c:pt>
                <c:pt idx="8">
                  <c:v>Лицей</c:v>
                </c:pt>
                <c:pt idx="9">
                  <c:v>Гимназия</c:v>
                </c:pt>
                <c:pt idx="10">
                  <c:v>ЛКК</c:v>
                </c:pt>
                <c:pt idx="11">
                  <c:v>ЛДД</c:v>
                </c:pt>
                <c:pt idx="12">
                  <c:v>Правосл. гимн.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3"/>
                <c:pt idx="0">
                  <c:v>8</c:v>
                </c:pt>
                <c:pt idx="1">
                  <c:v>5</c:v>
                </c:pt>
                <c:pt idx="2">
                  <c:v>8</c:v>
                </c:pt>
                <c:pt idx="3">
                  <c:v>6</c:v>
                </c:pt>
                <c:pt idx="4">
                  <c:v>5</c:v>
                </c:pt>
                <c:pt idx="5">
                  <c:v>2</c:v>
                </c:pt>
                <c:pt idx="6">
                  <c:v>8</c:v>
                </c:pt>
                <c:pt idx="7">
                  <c:v>1</c:v>
                </c:pt>
                <c:pt idx="8">
                  <c:v>16</c:v>
                </c:pt>
                <c:pt idx="9">
                  <c:v>5</c:v>
                </c:pt>
                <c:pt idx="11">
                  <c:v>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2011 г.</c:v>
                </c:pt>
              </c:strCache>
            </c:strRef>
          </c:tx>
          <c:spPr>
            <a:solidFill>
              <a:srgbClr val="83caff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General" sourceLinked="0"/>
            <c:txPr>
              <a:bodyPr wrap="none"/>
              <a:lstStyle/>
              <a:p>
                <a:pPr>
                  <a:defRPr b="1" sz="14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3"/>
                <c:pt idx="0">
                  <c:v>СОШ 1</c:v>
                </c:pt>
                <c:pt idx="1">
                  <c:v>СОШ 2</c:v>
                </c:pt>
                <c:pt idx="2">
                  <c:v>СОШ 4</c:v>
                </c:pt>
                <c:pt idx="3">
                  <c:v>ООШ 5</c:v>
                </c:pt>
                <c:pt idx="4">
                  <c:v>СОШ 6</c:v>
                </c:pt>
                <c:pt idx="5">
                  <c:v>СОШ 8</c:v>
                </c:pt>
                <c:pt idx="6">
                  <c:v>СОШ 9</c:v>
                </c:pt>
                <c:pt idx="7">
                  <c:v>СОШ 18</c:v>
                </c:pt>
                <c:pt idx="8">
                  <c:v>Лицей</c:v>
                </c:pt>
                <c:pt idx="9">
                  <c:v>Гимназия</c:v>
                </c:pt>
                <c:pt idx="10">
                  <c:v>ЛКК</c:v>
                </c:pt>
                <c:pt idx="11">
                  <c:v>ЛДД</c:v>
                </c:pt>
                <c:pt idx="12">
                  <c:v>Правосл. гимн.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3"/>
                <c:pt idx="0">
                  <c:v>8</c:v>
                </c:pt>
                <c:pt idx="1">
                  <c:v>3</c:v>
                </c:pt>
                <c:pt idx="2">
                  <c:v>5</c:v>
                </c:pt>
                <c:pt idx="3">
                  <c:v>8</c:v>
                </c:pt>
                <c:pt idx="4">
                  <c:v>10</c:v>
                </c:pt>
                <c:pt idx="5">
                  <c:v>2</c:v>
                </c:pt>
                <c:pt idx="6">
                  <c:v>8</c:v>
                </c:pt>
                <c:pt idx="8">
                  <c:v>12</c:v>
                </c:pt>
                <c:pt idx="9">
                  <c:v>4</c:v>
                </c:pt>
                <c:pt idx="10">
                  <c:v>2</c:v>
                </c:pt>
                <c:pt idx="11">
                  <c:v>1</c:v>
                </c:pt>
                <c:pt idx="12">
                  <c:v>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2012 г.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General" sourceLinked="0"/>
            <c:txPr>
              <a:bodyPr wrap="none"/>
              <a:lstStyle/>
              <a:p>
                <a:pPr>
                  <a:defRPr b="1" sz="14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3"/>
                <c:pt idx="0">
                  <c:v>СОШ 1</c:v>
                </c:pt>
                <c:pt idx="1">
                  <c:v>СОШ 2</c:v>
                </c:pt>
                <c:pt idx="2">
                  <c:v>СОШ 4</c:v>
                </c:pt>
                <c:pt idx="3">
                  <c:v>ООШ 5</c:v>
                </c:pt>
                <c:pt idx="4">
                  <c:v>СОШ 6</c:v>
                </c:pt>
                <c:pt idx="5">
                  <c:v>СОШ 8</c:v>
                </c:pt>
                <c:pt idx="6">
                  <c:v>СОШ 9</c:v>
                </c:pt>
                <c:pt idx="7">
                  <c:v>СОШ 18</c:v>
                </c:pt>
                <c:pt idx="8">
                  <c:v>Лицей</c:v>
                </c:pt>
                <c:pt idx="9">
                  <c:v>Гимназия</c:v>
                </c:pt>
                <c:pt idx="10">
                  <c:v>ЛКК</c:v>
                </c:pt>
                <c:pt idx="11">
                  <c:v>ЛДД</c:v>
                </c:pt>
                <c:pt idx="12">
                  <c:v>Правосл. гимн.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13"/>
                <c:pt idx="0">
                  <c:v>5</c:v>
                </c:pt>
                <c:pt idx="1">
                  <c:v>5</c:v>
                </c:pt>
                <c:pt idx="2">
                  <c:v>7</c:v>
                </c:pt>
                <c:pt idx="3">
                  <c:v>4</c:v>
                </c:pt>
                <c:pt idx="4">
                  <c:v>10</c:v>
                </c:pt>
                <c:pt idx="5">
                  <c:v>2</c:v>
                </c:pt>
                <c:pt idx="6">
                  <c:v>16</c:v>
                </c:pt>
                <c:pt idx="7">
                  <c:v>2</c:v>
                </c:pt>
                <c:pt idx="8">
                  <c:v>14</c:v>
                </c:pt>
                <c:pt idx="9">
                  <c:v>3</c:v>
                </c:pt>
                <c:pt idx="10">
                  <c:v>3</c:v>
                </c:pt>
                <c:pt idx="11">
                  <c:v>4</c:v>
                </c:pt>
                <c:pt idx="12">
                  <c:v>3</c:v>
                </c:pt>
              </c:numCache>
            </c:numRef>
          </c:val>
        </c:ser>
        <c:gapWidth val="100"/>
        <c:overlap val="0"/>
        <c:axId val="69973131"/>
        <c:axId val="70845535"/>
      </c:barChart>
      <c:catAx>
        <c:axId val="6997313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1" sz="14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845535"/>
        <c:crosses val="autoZero"/>
        <c:auto val="1"/>
        <c:lblAlgn val="ctr"/>
        <c:lblOffset val="100"/>
        <c:noMultiLvlLbl val="0"/>
      </c:catAx>
      <c:valAx>
        <c:axId val="708455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73131"/>
        <c:crosses val="autoZero"/>
        <c:crossBetween val="between"/>
      </c:valAx>
      <c:spPr>
        <a:noFill/>
        <a:ln w="0">
          <a:solidFill>
            <a:srgbClr val="b3b3b3"/>
          </a:solidFill>
          <a:custDash>
            <a:ds d="7447124" sp="564007"/>
            <a:ds d="100000" sp="564007"/>
            <a:ds d="100000" sp="564007"/>
            <a:ds d="100000" sp="564007"/>
            <a:ds d="100000" sp="564007"/>
            <a:ds d="100000" sp="564007"/>
            <a:ds d="100000" sp="564007"/>
            <a:ds d="100000" sp="564007"/>
            <a:ds d="100000" sp="564007"/>
            <a:ds d="100000" sp="564007"/>
            <a:ds d="100000" sp="564007"/>
          </a:custDash>
        </a:ln>
      </c:spPr>
    </c:plotArea>
    <c:legend>
      <c:legendPos val="r"/>
      <c:layout>
        <c:manualLayout>
          <c:xMode val="edge"/>
          <c:yMode val="edge"/>
          <c:x val="0.833128878626064"/>
          <c:y val="0.0664330258207494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695E-2678-4017-90F2-B558F347C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648E-986D-46EC-95CF-F3467F1A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82CB-6433-41BF-981A-67F2837D9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B9C5-608C-495D-93A6-93956E4FC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40A5-E4EF-40C1-9E24-F1C0923F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6F13-A231-4F65-9261-18722FDD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3FE4-3FBA-48CF-8D84-50EB8A50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24DC-D00C-44B1-8A0F-B781E4A7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B2C6-180D-4B3E-AF12-5F92EFE3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AC0B-7228-4621-825F-18417597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21B7-A7BE-477E-9FAF-E9D4E413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4C56-1077-4D78-BE93-E86EB964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A3106-4491-4E48-9EA6-4C1FCB5A0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0720" y="1484280"/>
            <a:ext cx="8640720" cy="39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252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5400" spc="-1" strike="noStrike">
                <a:solidFill>
                  <a:srgbClr val="0047ff"/>
                </a:solidFill>
                <a:latin typeface="Arial"/>
              </a:rPr>
              <a:t>Итог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5400" spc="-1" strike="noStrike">
                <a:solidFill>
                  <a:srgbClr val="0047ff"/>
                </a:solidFill>
                <a:latin typeface="Arial"/>
              </a:rPr>
              <a:t>городских научно-практических конференций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5400" spc="-1" strike="noStrike">
                <a:solidFill>
                  <a:srgbClr val="0047ff"/>
                </a:solidFill>
                <a:latin typeface="Arial"/>
              </a:rPr>
              <a:t> </a:t>
            </a:r>
            <a:r>
              <a:rPr b="1" lang="de-DE" sz="5400" spc="-1" strike="noStrike">
                <a:solidFill>
                  <a:srgbClr val="0047ff"/>
                </a:solidFill>
                <a:latin typeface="Arial"/>
              </a:rPr>
              <a:t>2012 г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00360" y="6521400"/>
            <a:ext cx="665964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Ирина Вадимовна Назаренко, методист МБУ „МИМЦ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Семинар по итогам ГНПК и ВсОШ 2011-2012 уч.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3 марта 201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128520"/>
            <a:ext cx="91807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2300dc"/>
                </a:solidFill>
                <a:latin typeface="Arial"/>
              </a:rPr>
              <a:t>Эффективность участия ОУ в ГНПК 2010-2012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9840" y="630360"/>
          <a:ext cx="9969120" cy="6874920"/>
        </p:xfrm>
        <a:graphic>
          <a:graphicData uri="http://schemas.openxmlformats.org/drawingml/2006/table">
            <a:tbl>
              <a:tblPr/>
              <a:tblGrid>
                <a:gridCol w="1429200"/>
                <a:gridCol w="1065600"/>
                <a:gridCol w="1194120"/>
                <a:gridCol w="1162440"/>
                <a:gridCol w="1000440"/>
                <a:gridCol w="1356120"/>
                <a:gridCol w="1211400"/>
                <a:gridCol w="1549800"/>
              </a:tblGrid>
              <a:tr h="373320"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b8ff"/>
                    </a:solidFill>
                  </a:tcPr>
                </a:tc>
                <a:tc gridSpan="2">
                  <a:txBody>
                    <a:bodyPr lIns="36000" rIns="36000" tIns="5364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010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b8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5364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011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b8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5364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012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b8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b8ff"/>
                    </a:solidFill>
                  </a:tcPr>
                </a:tc>
              </a:tr>
              <a:tr h="1145880">
                <a:tc>
                  <a:txBody>
                    <a:bodyPr lIns="36000" rIns="36000" tIns="4932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5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О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b8ff"/>
                    </a:solidFill>
                  </a:tcPr>
                </a:tc>
                <a:tc>
                  <a:txBody>
                    <a:bodyPr lIns="36000" rIns="36000" tIns="4932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5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Кол-во рабо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b8ff"/>
                    </a:solidFill>
                  </a:tcPr>
                </a:tc>
                <a:tc>
                  <a:txBody>
                    <a:bodyPr lIns="36000" rIns="36000" tIns="4932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5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Эффективность участ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b8ff"/>
                    </a:solidFill>
                  </a:tcPr>
                </a:tc>
                <a:tc>
                  <a:txBody>
                    <a:bodyPr lIns="36000" rIns="36000" tIns="4932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5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Кол-во рабо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b8ff"/>
                    </a:solidFill>
                  </a:tcPr>
                </a:tc>
                <a:tc>
                  <a:txBody>
                    <a:bodyPr lIns="36000" rIns="36000" tIns="4932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5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Эффективность участ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b8ff"/>
                    </a:solidFill>
                  </a:tcPr>
                </a:tc>
                <a:tc>
                  <a:txBody>
                    <a:bodyPr lIns="36000" rIns="36000" tIns="4932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5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Кол-во рабо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b8ff"/>
                    </a:solidFill>
                  </a:tcPr>
                </a:tc>
                <a:tc>
                  <a:txBody>
                    <a:bodyPr lIns="36000" rIns="36000" tIns="4932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5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Эффективность участ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b8ff"/>
                    </a:solidFill>
                  </a:tcPr>
                </a:tc>
                <a:tc>
                  <a:txBody>
                    <a:bodyPr lIns="36000" rIns="36000" tIns="4932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5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Прирост/снижение эффективности по сравн. с 2011 г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b8ff"/>
                    </a:solidFill>
                  </a:tcPr>
                </a:tc>
              </a:tr>
              <a:tr h="373320"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СОШ №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36000" rIns="36000" tIns="536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36000" rIns="36000" tIns="518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3,3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36000" rIns="36000" tIns="536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36000" rIns="36000" tIns="518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88,8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36000" rIns="36000" tIns="536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36000" rIns="36000" tIns="518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5,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 33,3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73320"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СОШ №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536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518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5,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536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518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7,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536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518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5,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+ 18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73320"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СОШ №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36000" rIns="36000" tIns="536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36000" rIns="36000" tIns="518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88,8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36000" rIns="36000" tIns="536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36000" rIns="36000" tIns="518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36000" rIns="36000" tIns="536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36000" rIns="36000" tIns="518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77,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+ 27,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73320"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ООШ №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536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518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2,8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536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518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7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536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518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 17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84120"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СОШ №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36000" rIns="36000" tIns="536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36000" rIns="36000" tIns="518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1,2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36000" rIns="36000" tIns="536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36000" rIns="36000" tIns="518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3,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36000" rIns="36000" tIns="536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36000" rIns="36000" tIns="518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3,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84120"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СОШ №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536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518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536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518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536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518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73320"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СОШ №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36000" rIns="36000" tIns="536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36000" rIns="36000" tIns="518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1,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36000" rIns="36000" tIns="536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36000" rIns="36000" tIns="518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7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36000" rIns="36000" tIns="536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36000" rIns="36000" tIns="518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84,2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+ 37,2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73320"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СОШ №  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536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518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536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518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536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518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+ 5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73320"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Гимназ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36000" rIns="36000" tIns="536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36000" rIns="36000" tIns="518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9,4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36000" rIns="36000" tIns="536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36000" rIns="36000" tIns="518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36000" rIns="36000" tIns="536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36000" rIns="36000" tIns="518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 2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73320"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Лиц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536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518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2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536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518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8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536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518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6,7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 1,3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597960"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Православная гим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36000" rIns="36000" tIns="536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36000" rIns="36000" tIns="518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36000" rIns="36000" tIns="536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36000" rIns="36000" tIns="518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3,3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36000" rIns="36000" tIns="536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36000" rIns="36000" tIns="518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7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+ 41,7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73320"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ЛК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536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518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536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518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2,2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536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36000" rIns="36000" tIns="518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7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+ 52, 8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73320"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Детский 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36000" rIns="36000" tIns="536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36000" rIns="36000" tIns="518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36000" rIns="36000" tIns="536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36000" rIns="36000" tIns="518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36000" rIns="36000" tIns="536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36000" rIns="36000" tIns="518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8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+ 6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60360" y="179280"/>
            <a:ext cx="702180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2300dc"/>
                </a:solidFill>
                <a:latin typeface="Arial"/>
              </a:rPr>
              <a:t>Проблемы и затруднения ГНПК 20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720720"/>
            <a:ext cx="9720360" cy="77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Низкая активность учащихся  11 классов в области УИДШ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Снижение интереса к выполнению исследований по предметам: литература, МХК, иностранные языки, география, математика, информатика, экология, история, русский язык, краеведение, информатика и ИК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Отсутствие победителей (I мест) по  русскому языку, географии в 5-8 класс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Трудности при определении секции ГН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Наличие фактических ошибок в работах (например, в работах по литератур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Оформление работ и презентаций к докладам не соответствует требован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УИДШ не становится для учителей методом формирования компетентностей де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За последние годы  высоких результатов УИДШ добиваются школьники под руководством одних и тех же педагог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Неорганизованность и несвоевременность копирования на ПК в секциях презентаций к докладам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Проблемы в работе экспертных груп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Отсутствие заочного тура не позволило экспертам  детально познакомиться с содержанием и оформлением раб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955880" y="179280"/>
            <a:ext cx="632448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2300dc"/>
                </a:solidFill>
                <a:latin typeface="Arial"/>
              </a:rPr>
              <a:t>Перспективы на 2013 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0360" y="1249200"/>
            <a:ext cx="9539280" cy="77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 Внесение изменений в Положение о ГНП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увеличение квоты участия до 2 работ от каждого ОУ на секцию для 9-11 класс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введение бонусов для школ-победителей ГНПК прошлого го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внесение технических  требований к презентациям, сопровождающим доклады участ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введение особых номинаций для участников ГНПК на многочисленных секци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приведение секций ГНПК в соответствие с секциями Краевого форума „Молодёжь и наука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Обсуждение Положений о ГНПК на заседаниях ГМ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 Сокращение сроков проведения ШНПК (одна неделя – 1-7 февраля) и подачи заявок на ГНПК в более ранние сроки и проведения заочного ту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. Привлечение большего количества экспетров из вузов на секции ГНПК „ЮНИОР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. Курирование  УИДШ специалистами вуз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73120" y="539640"/>
            <a:ext cx="86072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2300dc"/>
                </a:solidFill>
                <a:latin typeface="Arial"/>
              </a:rPr>
              <a:t>Особенности  ГНПК -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1440000"/>
            <a:ext cx="899964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-  Внесение ГНПК в перечень мероприятий городской целевой программы „Одарённые дети Лесосибирска“ (финансовая поддержк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-  Изменение возрастных рамок участников ГНПК в соответствии с возрастными номинациями краевого форума „Молодёжь и наука“ 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-  Участие специалистов СибГТУ в работе секций в качестве эксперто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-  Впервые в качестве руководителей экспертных  групп на ГНПК для 5-8 классов были приглашены специалисты ЛПИ – ф. СФУ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-  Своевременное и мобильное размещение на сайте МИМЦ материалов по итогам работы каждого из дней ГНП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79640" y="360360"/>
            <a:ext cx="77403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2300dc"/>
                </a:solidFill>
                <a:latin typeface="Arial"/>
              </a:rPr>
              <a:t>Статистика ГНПК 2010 – 2012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88920" y="2055960"/>
          <a:ext cx="9991800" cy="4133520"/>
        </p:xfrm>
        <a:graphic>
          <a:graphicData uri="http://schemas.openxmlformats.org/drawingml/2006/table">
            <a:tbl>
              <a:tblPr/>
              <a:tblGrid>
                <a:gridCol w="3681360"/>
                <a:gridCol w="1824120"/>
                <a:gridCol w="1560600"/>
                <a:gridCol w="1298520"/>
                <a:gridCol w="1627200"/>
              </a:tblGrid>
              <a:tr h="433440">
                <a:tc>
                  <a:txBody>
                    <a:bodyPr lIns="36000" rIns="36000" tIns="572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Показате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3caff"/>
                    </a:solidFill>
                  </a:tcPr>
                </a:tc>
                <a:tc>
                  <a:txBody>
                    <a:bodyPr lIns="36000" rIns="36000" tIns="572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010 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3caff"/>
                    </a:solidFill>
                  </a:tcPr>
                </a:tc>
                <a:tc>
                  <a:txBody>
                    <a:bodyPr lIns="36000" rIns="36000" tIns="572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011 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3caff"/>
                    </a:solidFill>
                  </a:tcPr>
                </a:tc>
                <a:tc>
                  <a:txBody>
                    <a:bodyPr lIns="36000" rIns="36000" tIns="572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012 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3caff"/>
                    </a:solidFill>
                  </a:tcPr>
                </a:tc>
                <a:tc>
                  <a:txBody>
                    <a:bodyPr lIns="36000" rIns="36000" tIns="572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ИТО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3caff"/>
                    </a:solidFill>
                  </a:tcPr>
                </a:tc>
              </a:tr>
              <a:tr h="455040"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Количество доклад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455040"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Количество секц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134720"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Количество победителей и призёр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1814400"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Количество работ - участников краевого форума „Молодёжь и наука“/ количество  победител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5/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1/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2/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8/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979640" y="720720"/>
            <a:ext cx="648000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2323dc"/>
                </a:solidFill>
                <a:latin typeface="Arial"/>
              </a:rPr>
              <a:t>Распределение участников ГНПК – 2012 по параллел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2089080"/>
          <a:ext cx="10078920" cy="5470560"/>
        </p:xfrm>
        <a:graphic>
          <a:graphicData uri="http://schemas.openxmlformats.org/drawingml/2006/table">
            <a:tbl>
              <a:tblPr/>
              <a:tblGrid>
                <a:gridCol w="3419640"/>
                <a:gridCol w="3887640"/>
                <a:gridCol w="2771640"/>
              </a:tblGrid>
              <a:tr h="1494360">
                <a:tc>
                  <a:txBody>
                    <a:bodyPr lIns="36000" rIns="36000" tIns="608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3caff"/>
                    </a:solidFill>
                  </a:tcPr>
                </a:tc>
                <a:tc>
                  <a:txBody>
                    <a:bodyPr lIns="36000" rIns="36000" tIns="608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Количество участников ГНПК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3caff"/>
                    </a:solidFill>
                  </a:tcPr>
                </a:tc>
                <a:tc>
                  <a:txBody>
                    <a:bodyPr lIns="36000" rIns="36000" tIns="536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% от общего  количества участников ГНП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3caff"/>
                    </a:solidFill>
                  </a:tcPr>
                </a:tc>
              </a:tr>
              <a:tr h="56808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>
                      <a:noFill/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>
                      <a:noFill/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1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,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56808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71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3,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6772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1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56808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71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6808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1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6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56772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71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7,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6844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1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7,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60360" y="353880"/>
            <a:ext cx="91803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2300dc"/>
                </a:solidFill>
                <a:latin typeface="Arial"/>
              </a:rPr>
              <a:t>Количество работ ГНПК „ЮНИОР“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2300dc"/>
                </a:solidFill>
                <a:latin typeface="Arial"/>
              </a:rPr>
              <a:t>2010-2012 г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72880" y="1095480"/>
          <a:ext cx="9596520" cy="63230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0360" y="353880"/>
            <a:ext cx="9180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2300dc"/>
                </a:solidFill>
                <a:latin typeface="Arial"/>
              </a:rPr>
              <a:t>Количество работ ГНПК „Первые шаги в науку“  2010-2012 гг. по предметам социально-гуманитарного цик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16080" y="900000"/>
          <a:ext cx="9585000" cy="62834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7480" y="246240"/>
            <a:ext cx="981216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2300dc"/>
                </a:solidFill>
                <a:latin typeface="Arial"/>
              </a:rPr>
              <a:t>Количество работ ГНПК „Первые шаги в науку“ 2010-2012 гг. по предметам физико-математического и естественно-научного цик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16080" y="900000"/>
          <a:ext cx="9585000" cy="63010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9280" y="179280"/>
            <a:ext cx="95392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2300dc"/>
                </a:solidFill>
                <a:latin typeface="Arial"/>
              </a:rPr>
              <a:t>Динамика  призовых мест ОУ  за 2010-2012 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8680" y="539640"/>
          <a:ext cx="9977400" cy="69850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440000" y="179280"/>
            <a:ext cx="745776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2300dc"/>
                </a:solidFill>
                <a:latin typeface="Arial"/>
              </a:rPr>
              <a:t>Рейтинг участия ОУ в ГНПК 2012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9840" y="633240"/>
          <a:ext cx="10009080" cy="6897960"/>
        </p:xfrm>
        <a:graphic>
          <a:graphicData uri="http://schemas.openxmlformats.org/drawingml/2006/table">
            <a:tbl>
              <a:tblPr/>
              <a:tblGrid>
                <a:gridCol w="3506760"/>
                <a:gridCol w="3228840"/>
                <a:gridCol w="222480"/>
                <a:gridCol w="3051000"/>
              </a:tblGrid>
              <a:tr h="885600">
                <a:tc>
                  <a:txBody>
                    <a:bodyPr lIns="36000" rIns="36000" tIns="536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О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3caff"/>
                    </a:solidFill>
                  </a:tcPr>
                </a:tc>
                <a:tc>
                  <a:txBody>
                    <a:bodyPr lIns="36000" rIns="36000" tIns="536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Кол-во рабо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3caff"/>
                    </a:solidFill>
                  </a:tcPr>
                </a:tc>
                <a:tc>
                  <a:txBody>
                    <a:bodyPr lIns="36000" rIns="36000" tIns="518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3caff"/>
                    </a:solidFill>
                  </a:tcPr>
                </a:tc>
                <a:tc>
                  <a:txBody>
                    <a:bodyPr lIns="36000" rIns="36000" tIns="53640" bIns="36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Кол-во призовых ме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3caff"/>
                    </a:solidFill>
                  </a:tcPr>
                </a:tc>
              </a:tr>
              <a:tr h="39492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МБОУ «СОШ № 9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9492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МБОУ «Лицей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492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МБОУ «СОШ № 6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9492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МБОУ «СОШ № 4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7824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МБОУ «СОШ № 1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9492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МБОУ «СОШ № 2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492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МБОУ «ООШ №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55368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Детский д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492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МБОУ «Гимнази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9492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Православная гимназ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3704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Кадетский корпу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9492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МБОУ «СОШ № 8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492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МБОУ «СОШ № 18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9492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ИТОГО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3:32:33Z</dcterms:created>
  <dc:creator/>
  <dc:description/>
  <dc:language>en-US</dc:language>
  <cp:lastModifiedBy>user user</cp:lastModifiedBy>
  <cp:lastPrinted>2012-03-22T08:06:05Z</cp:lastPrinted>
  <dcterms:modified xsi:type="dcterms:W3CDTF">2012-03-29T02:01:27Z</dcterms:modified>
  <cp:revision>53</cp:revision>
  <dc:subject/>
  <dc:title/>
</cp:coreProperties>
</file>