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77B0-9AC2-4DA6-9C3A-1D4D5938A4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E466-E5BB-4354-88E7-3B3452D57A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50D0-5A04-4B06-BB83-94A43110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BC6B-CE74-46AC-95B8-346AB516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2DE-F012-4314-9540-F471391F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321-5E27-45A7-B6F3-AEEB7105B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FB61-970F-4242-AA93-22AC6F01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DEA5-E57B-4023-8885-D3051295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D792-1EC3-45E0-B1B0-8237AAE3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7BA9-A6E7-4ED5-9924-DB958A89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044A-FE04-4E31-8F1B-1071FAC4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6D5B-D7A6-4078-934D-45121079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020B-1D3E-465C-8424-B8BBCA99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B98-C659-440B-A3B0-B2611F3C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1426-7D97-4EC0-9E12-3A24616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AA48-4426-4D0E-ADCC-650AB12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77DB-9823-4F2C-B2AD-02F91E3F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0D65-F580-4979-B7A4-10FDE117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F9D9-0987-46F2-94A5-DB05ED0A1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20240-A718-41ED-A632-021159B9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A083-780A-4AC5-A9B4-F181A1D1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F337-548B-4B27-9AA0-816251DF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318A-242C-4F0B-9F20-D5208E7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9F876-4752-4B49-BDC8-09121819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E832-7FE4-44AE-827C-893B4C13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04A0C-00DF-4C2E-9220-845A3D9B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0AB1-11B3-47D8-B078-41D3B81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31A4-C59F-4736-899F-A03939B7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ADC7E-37CC-4DF8-9C09-30D21A9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0C715-8104-4835-85A8-95CBBB393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2935-6F49-4750-B811-3D171C3D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4178-F133-4C97-A161-A7F9F8E9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82640-3F6B-4BD8-AAA7-BE211283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4954B-8951-4B95-9E9C-6DF4E0EB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FC8A5-A739-474D-9D02-B0945B91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009A-4C8A-48AA-A88F-5C697369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87201-9931-43EB-BBE8-4448FEEF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289ED-3297-4361-9953-81220759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20EC3-42AB-483F-BF20-5BAC1604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89A6F-C5F0-46B3-841C-E45057BC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53880-9B64-4A6F-91B5-A826E711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815A0-F5D3-4AF8-8593-7EABB117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E5EFE-AE2A-46FB-95D6-67AD63B3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4AD0-3025-4E69-A767-F13EB7AE5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26195-D0A2-4F07-9457-B10CE5E9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1AE2-5332-47BD-AF28-243C4D64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DD0-5165-495A-936D-29DDCE68D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A9A4-1934-4E38-844A-9B884F3A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2CB76-0B92-4471-B341-75906BC5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FD7F6-8713-4A0C-A40A-21EFE122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B9BCF-F508-414D-BD3C-45193A27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FE983-461A-40E7-8B91-D945A819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27FBB-54E1-4113-AADD-ACC4A9DC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D808-F8FB-4AF3-9563-13AA1528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3DB68-775A-4662-B952-9A7042D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8C196-AD68-485B-B474-57BEFDD5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0E9A-7585-4816-9294-B47807B3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514F-B4B1-4935-84FC-57FC3543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DFD8B-D723-4A58-9DBE-D80A44BC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8419B-C106-4FD3-9495-8DCCB78D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1CC5-D63E-4E0B-A708-59126413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07765-1887-4063-831F-C92D8F29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51EA1-4FD2-44FB-941B-65502DB9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C0893-866E-41A9-AEDC-E62FA4AA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BB633-E672-4D99-B35B-DDC9DFCD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9ADD-F372-4085-94E8-0414A5D2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DF0B4-EB81-46E0-8D5F-5166C0B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6F489-6409-48E3-B25E-6A5D3E5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3AD2-DBEB-4C0F-AC4D-B34CD941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59788-DB84-4C23-AED1-C39FDBA9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2627D-BF6B-40A3-8B6D-EED83630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FF933-BC24-47A0-AD99-6D33BBE9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F0E15-84AB-4C0E-9F02-FAB58BA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E8F79-3858-4025-BECC-B6045A92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AF25-9E56-4CA3-9F90-5E1CCF6D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777DF-AF22-4114-9C55-555F3C2F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CA250-0056-4EC4-A8FA-E3488234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F592C-84D4-4369-AA88-FBDF38BF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22B98-20B6-4130-89F4-A40DFA33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32A-9081-4002-86F6-F2FCBBE2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C29F9-AA09-4974-B6A0-8674EEA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F5473-7459-47C0-BB4A-2C2B0130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C9E8C-A0C0-4D3C-9F10-39E3D8BC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DB7A-B595-4E02-ABE8-6DAE4D1A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EC99E-5F5D-4916-89B2-1B3243F5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C5AD-5DBD-4830-9611-C530051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D49F-4E5E-48A9-B219-F97AC98D9B4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F2A8-9E48-4B82-A8C8-753009AD779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F7EA-2B79-49A7-A9DB-08B275FE7F0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D993-8CA7-46BF-BD8F-28713E98157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3D80-5870-442C-A35E-E8E3321AD43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56A4F-9DC9-4250-A0B8-89A8A6ED7D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EFC8-15D8-4354-ABA3-3DE7C81F965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57200" y="2285640"/>
            <a:ext cx="7407360" cy="20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циологический опрос родителей воспитанников ДОУ</a:t>
            </a:r>
            <a:r>
              <a:rPr b="0" lang="ru-RU" sz="3900" spc="-1" strike="noStrike">
                <a:solidFill>
                  <a:srgbClr val="572314"/>
                </a:solidFill>
                <a:latin typeface="Arial"/>
              </a:rPr>
              <a:t> и учащихся ОУ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города Лесосибирск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Содержимое 3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Содержимое 3" descr=""/>
          <p:cNvPicPr/>
          <p:nvPr/>
        </p:nvPicPr>
        <p:blipFill>
          <a:blip r:embed="rId1"/>
          <a:stretch/>
        </p:blipFill>
        <p:spPr>
          <a:xfrm>
            <a:off x="1357200" y="857160"/>
            <a:ext cx="7499520" cy="564372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5"/>
          <p:cNvSpPr/>
          <p:nvPr/>
        </p:nvSpPr>
        <p:spPr>
          <a:xfrm>
            <a:off x="1857240" y="142920"/>
            <a:ext cx="6858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Удовлетворенность родителей услугами О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Диаграмма 4" descr=""/>
          <p:cNvPicPr/>
          <p:nvPr/>
        </p:nvPicPr>
        <p:blipFill>
          <a:blip r:embed="rId1"/>
          <a:stretch/>
        </p:blipFill>
        <p:spPr>
          <a:xfrm>
            <a:off x="1523880" y="428760"/>
            <a:ext cx="744876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Диаграмма 4" descr=""/>
          <p:cNvPicPr/>
          <p:nvPr/>
        </p:nvPicPr>
        <p:blipFill>
          <a:blip r:embed="rId1"/>
          <a:stretch/>
        </p:blipFill>
        <p:spPr>
          <a:xfrm>
            <a:off x="1523880" y="428760"/>
            <a:ext cx="712008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Диаграмма 4" descr=""/>
          <p:cNvPicPr/>
          <p:nvPr/>
        </p:nvPicPr>
        <p:blipFill>
          <a:blip r:embed="rId1"/>
          <a:stretch/>
        </p:blipFill>
        <p:spPr>
          <a:xfrm>
            <a:off x="1500120" y="285840"/>
            <a:ext cx="712008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Содержимое 3"/>
          <p:cNvGraphicFramePr/>
          <p:nvPr/>
        </p:nvGraphicFramePr>
        <p:xfrm>
          <a:off x="928800" y="111240"/>
          <a:ext cx="8215200" cy="663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11240"/>
                    <a:ext cx="8215200" cy="66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Прямоугольник 4"/>
          <p:cNvSpPr/>
          <p:nvPr/>
        </p:nvSpPr>
        <p:spPr>
          <a:xfrm>
            <a:off x="1071720" y="142920"/>
            <a:ext cx="7929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Степень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удовлетворе</a:t>
            </a:r>
            <a:r>
              <a:rPr b="1" lang="ru-RU" sz="2100" spc="-1" strike="noStrike">
                <a:solidFill>
                  <a:srgbClr val="000000"/>
                </a:solidFill>
                <a:latin typeface="Corbel"/>
              </a:rPr>
              <a:t>нности родителей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услугами ДО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676296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4"/>
          <p:cNvSpPr/>
          <p:nvPr/>
        </p:nvSpPr>
        <p:spPr>
          <a:xfrm>
            <a:off x="2629080" y="333360"/>
            <a:ext cx="57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читаемые формы работы с родителями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Диаграмма 5" descr=""/>
          <p:cNvPicPr/>
          <p:nvPr/>
        </p:nvPicPr>
        <p:blipFill>
          <a:blip r:embed="rId1"/>
          <a:stretch/>
        </p:blipFill>
        <p:spPr>
          <a:xfrm>
            <a:off x="1523880" y="1397160"/>
            <a:ext cx="719136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Содержимое 3"/>
          <p:cNvGraphicFramePr/>
          <p:nvPr/>
        </p:nvGraphicFramePr>
        <p:xfrm>
          <a:off x="928800" y="69840"/>
          <a:ext cx="8215200" cy="671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Содержимое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69840"/>
                    <a:ext cx="8215200" cy="671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Содержимое 3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Содержимое 3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Содержимое 3" descr=""/>
          <p:cNvPicPr/>
          <p:nvPr/>
        </p:nvPicPr>
        <p:blipFill>
          <a:blip r:embed="rId1"/>
          <a:stretch/>
        </p:blipFill>
        <p:spPr>
          <a:xfrm>
            <a:off x="928800" y="0"/>
            <a:ext cx="82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7:30:43Z</dcterms:created>
  <dc:creator>Евгений</dc:creator>
  <dc:description/>
  <dc:language>en-US</dc:language>
  <cp:lastModifiedBy>User</cp:lastModifiedBy>
  <dcterms:modified xsi:type="dcterms:W3CDTF">2012-04-04T08:10:36Z</dcterms:modified>
  <cp:revision>44</cp:revision>
  <dc:subject/>
  <dc:title>Социологический опрос воспитателей ДОУ города Лесосибирска</dc:title>
</cp:coreProperties>
</file>